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4D7-05F2-4FE2-918C-BA59D130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E05-FDD0-413C-8A30-9FEA95A7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715E9-EA27-43C4-BC5E-C74F1EC4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DFCBD-B186-4310-B332-B65BB9F3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66A7A-54A8-4B78-9501-5B9B9752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00D42-9633-4B16-A18B-F6C36A20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1C6DC-75DD-4ECE-BC68-716EC92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3D953-BE82-4219-8E6B-9FC39C81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A2018-350E-4FBE-8716-C95060D8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8B2E9-2D51-433C-B4FE-E7F10140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66725-36EB-4A95-A335-3AB90CD1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A134B-925D-402F-BAB3-6FCA79F2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530-041C-4D68-BB76-C1BF2733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E012E-8AEA-40BE-AA29-376CDAE1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4E8C1-1243-48AD-B43C-11709B5C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DA013-0BD5-48E7-B016-2DCC1CC0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95F00-424A-4FC1-9856-C0495ADA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F09EA-400C-45E0-9C3A-399C5B1F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4B7C0-61AB-4187-918C-0EFC231D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2D690-7554-4BDB-849E-79922DB1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C8822-83DA-4813-AE34-15F5A129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4C1D8-5E78-466B-A0CD-2D311D5B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7B479-18AA-4DCE-9EC8-9A7CE8C6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784-30DD-4946-B3BC-8569A659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74C4B-D5A1-4B17-981F-933C8A6F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56EC8-5AB5-44B5-BC42-14061CA4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FD3C8-81EC-4A44-930E-FBA6BF41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DC400-DDA0-4E57-8458-67AE6CCE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A901E-8A55-42F7-AF70-2BE1517D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131F5-AB6F-402C-936E-F07E4321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F678D-A9EE-41DB-8D4D-D5138F04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A4A2A-C6FB-47F4-98DE-7F8141E0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82AB7-27F7-4131-8A20-E0E3167B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AC5E8-A3D2-42F4-BF4B-686C3F44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B2C5-A126-4693-BCC1-37CB5094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BC854-855C-4A8A-B8A4-086DCCB9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8FD01-19C8-4F1D-9C33-499D8599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F6162-8D73-4EC5-B8A8-4A8D347E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3A613-BF1D-44C8-9584-0F277F7A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C1A4D-EAAC-42A4-8C68-0D36CC6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39E34-9627-4170-8FD9-7E448FE8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460C3-22B3-40E6-8351-C9A9BA87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C5CB1-34FF-4A94-ACB4-0079DAFC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38165-0115-4A35-AF21-A8CF758D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FC43F-5B58-41B9-9177-A31AA676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1D1B-BC00-4B18-8BA3-EAC94B68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8BA16-031A-45A8-A839-F2AF739A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0984D-318D-425E-83F8-5FA0F50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6BF7C-DABD-4635-9D38-4CD05192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F2628-59DC-46D8-B7C2-A45654C9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A2BCF-EAF6-45FB-B8AB-39E54457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46BA-C5C5-4E2A-83AE-CABA877C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3CD0-A572-4830-A933-24646D98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CE6C-4CBE-4230-8FC0-8EFFE57B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2831-2421-449B-B96E-5FF1015F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42AE-B882-498F-9045-C159D570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33E-13F9-4A1B-B28D-0B69DC62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1114-82BF-4EF6-AA6A-09B33251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8422-BA03-4426-84BF-87D8CB89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D025-A6D4-424C-AF48-07449475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F6D6-0EF4-4AED-B637-E2F80C6C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A42-47D9-4EF9-9C83-D1825EFA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F098-9871-4B92-B49A-A74AA179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6207-44C2-4315-9A4F-DBE03FF7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C58E-12D8-4D67-A125-2559EDF9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1988-DCD8-4967-80B8-897138DA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AC4C-7FEB-4F71-BDD8-931FEE03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BFC-662A-4C05-ACFD-CC37B772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8D71-D4E5-4D3E-BDC6-C0E720B4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AA99-B665-4044-A88C-75534124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E3E5-871B-415D-B17F-DAF8CCFF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FECA-2CE4-42CA-B706-C0B0D6A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B70B-D1D9-4165-9014-20DEDC8C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BB28-648D-4193-92AD-5B1C656E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0CCE-9DF3-4AC6-A51E-2F2286FB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C794D-B8EF-4AD4-8C96-F51D91D6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E2934-1532-424C-9FAE-84C80DB4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E7531-6376-462B-B917-2142B3C2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FAE-8283-4174-917C-7CC358E5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E5235-FC61-4C3D-B425-CE7C2422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80230-AAE2-47B5-B2EE-B98BCF12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46BE-42EC-4653-9A21-ACBFE873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C7EE2-8267-4709-991E-5D35B1C1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B40A0-1782-43E7-9A19-B2B5F40E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AD968-3697-4CC0-9CE6-01353CCC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2CF3-F4A2-4D2B-A24A-975556F8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BF2BD-12E1-4A8B-8A16-DA4AC95E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FB319-2C07-468F-BCEA-F970E600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098E-6CA0-4E03-B7E3-969B8128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B42-0103-410C-9D31-F2E3797C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237AB-AF9C-4A81-B93C-B55730AE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21FE-8F54-4A58-9E79-248247C0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1E632-3542-42E2-96EF-492229F8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8700B-329E-4E32-873C-4B8ED9B6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A0CF-71E4-4B73-B935-CF3846EF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AA8EB-3DB9-42BA-9098-84A3E1AA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76AB7-24DD-4C00-9238-A220B9A3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FFC7E-7F04-48AB-B82E-619B942B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21EE2-5884-4FE8-91D6-DC960FEA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489AB-A92D-439A-A194-E9AD7E5F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81B-2F8C-4DD2-B1C8-3F3CCE20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69935-4016-4EBD-9243-ECEDED5D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01987-9D68-4460-9277-59C6D084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C6EF-053F-4FB7-8409-287348B4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2772B-C027-4C43-827A-98DC0B01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B99AE-1BF4-4228-9CF0-A24615A1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778E3-A9FD-487F-B225-6E43E339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32B91-57C2-47A1-8034-5C728C65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2B63A-41D4-41F3-9F90-B02A03F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074D3-6248-4AD0-924C-B5AF5372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C306-CA58-4301-B934-C584358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333-D8B0-4B66-AB00-A10CB924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F8C00-9E79-492C-82E4-8DC0A660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5693E-C691-4423-AD5D-AB2FDC13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FF3EC-919C-4A6F-81C4-5865E365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BA9AA-5E2A-4AA7-9BF5-76203ECF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4CC6F-53AD-47E6-B0C6-9451C2CA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DA726-431B-40DF-B6C3-0299A9F9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28EB1-D679-4F66-A4E9-908ED4E7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15FEA-5A27-4B75-A505-64561F6B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FABD1-ABF2-4C3B-8DAF-46105B19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3ABE4-FB67-4573-B22B-ACCC532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A08-6994-47D8-BA33-3C663695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93E05-9FBE-4B40-96D6-3ACA374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02DDF-5035-429B-BE6A-5181A22E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F2303-AC88-4F84-9676-E337D36F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DDDCA-CD97-4199-9162-C2781BC5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32E3F-3552-4FA0-BED5-8CD00566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EFE6C-0DA1-4BB8-B3C8-83769B92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CF3BA-9142-4E2A-9117-D7EDE520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1D7AC-D633-4D26-BF79-696BF96F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66672-4615-44F6-9D9F-FDBA0435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D20C-43C5-4AC8-8065-9503DB20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ABF-C7CF-44A4-9E04-18B90315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B5A99-93CC-4A55-97FA-514E70E3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C4CB9-EA6D-4C36-8780-635E34D8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4091E-3830-4BED-B74D-D10B2EF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34B82-EA0E-456C-8BA9-0D06AEB1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5FB0D-FADE-42F1-86DC-263769E0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6FB16-C925-4E2A-AA31-9A21CDB3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09A9C-8A51-4F9A-A980-57C5875E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50C5B-AAA6-43E4-A504-D38DAF02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446DD-43C3-422B-AB7C-C22F2D83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4C233-9B35-4FE2-8431-23CAD853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76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01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11BD-A54D-4B82-B302-07ED060A13F0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" name="Picture 1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535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537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3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44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545" name="Straight Connector 17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547" name="Rectangle 19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Box 20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Straight Connector 21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Straight Connector 22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Straight Connector 23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Straight Connector 24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3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8"/>
          </p:nvPr>
        </p:nvSpPr>
        <p:spPr>
          <a:xfrm>
            <a:off x="1076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9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0"/>
          </p:nvPr>
        </p:nvSpPr>
        <p:spPr>
          <a:xfrm>
            <a:off x="6901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CF9E-3351-4F99-A4D3-4D67B6A2BC2B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596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598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4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05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06" name="Straight Connector 17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608" name="Rectangle 19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Box 20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Straight Connector 21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Straight Connector 22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23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Straight Connector 24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4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1"/>
          </p:nvPr>
        </p:nvSpPr>
        <p:spPr>
          <a:xfrm>
            <a:off x="1076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2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3"/>
          </p:nvPr>
        </p:nvSpPr>
        <p:spPr>
          <a:xfrm>
            <a:off x="6901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1FF9-52A0-41DD-A30E-81FB7FAE9D6A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57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659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5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66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67" name="Straight Connector 17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669" name="Rectangle 19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TextBox 20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Straight Connector 21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Straight Connector 22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Straight Connector 23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Straight Connector 24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5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34"/>
          </p:nvPr>
        </p:nvSpPr>
        <p:spPr>
          <a:xfrm>
            <a:off x="1076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35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36"/>
          </p:nvPr>
        </p:nvSpPr>
        <p:spPr>
          <a:xfrm>
            <a:off x="6901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E6CB-BFE8-49AF-AB66-D4B237C36E5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52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54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" name="Rectangle 16"/>
          <p:cNvSpPr/>
          <p:nvPr/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8" descr="artslogo.png"/>
          <p:cNvPicPr/>
          <p:nvPr/>
        </p:nvPicPr>
        <p:blipFill>
          <a:blip r:embed="rId3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8"/>
          <p:cNvSpPr/>
          <p:nvPr/>
        </p:nvSpPr>
        <p:spPr>
          <a:xfrm>
            <a:off x="0" y="142920"/>
            <a:ext cx="500040" cy="357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673920" y="1429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571680" y="6524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524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901920" y="652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08C4-193F-4FB7-A8A7-12FF5F5E5B00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07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09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6" name="Group 80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17" name="Straight Connector 17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19" name="Rectangle 19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20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Straight Connector 21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Straight Connector 22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Straight Connector 23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Straight Connector 24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1076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901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BA10-5CF0-4D91-8485-1DDD247FEBAB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68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70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7" name="Group 53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78" name="Straight Connector 17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80" name="Rectangle 19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20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Straight Connector 21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22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Straight Connector 23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Straight Connector 24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076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901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1685-65C4-43B9-8EDC-98AE3EE25363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229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231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8" name="Freeform 31"/>
          <p:cNvSpPr/>
          <p:nvPr/>
        </p:nvSpPr>
        <p:spPr>
          <a:xfrm>
            <a:off x="8072280" y="1285920"/>
            <a:ext cx="190800" cy="39600"/>
          </a:xfrm>
          <a:prstGeom prst="pie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9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240" name="Straight Connector 1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242" name="Rectangle 2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2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Straight Connector 2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Straight Connector 2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Straight Connector 2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Straight Connector 2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8" name="Picture 27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1076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901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8B53-DAC4-4CE3-A0A7-8501314A192E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291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293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9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0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301" name="Straight Connector 17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03" name="Rectangle 19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Box 20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Straight Connector 21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Straight Connector 22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Straight Connector 23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Straight Connector 24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9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6"/>
          </p:nvPr>
        </p:nvSpPr>
        <p:spPr>
          <a:xfrm>
            <a:off x="1076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7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8"/>
          </p:nvPr>
        </p:nvSpPr>
        <p:spPr>
          <a:xfrm>
            <a:off x="6901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4260-0F41-4D6D-8BD5-CA915A671C6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352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54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0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1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362" name="Straight Connector 17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64" name="Rectangle 19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Box 20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Straight Connector 21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Straight Connector 22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Straight Connector 23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Straight Connector 24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0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1076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1"/>
          </p:nvPr>
        </p:nvSpPr>
        <p:spPr>
          <a:xfrm>
            <a:off x="6901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5C70-3435-429A-A144-3C27CABDBE9D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13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15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1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22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23" name="Straight Connector 17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25" name="Rectangle 19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Box 20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Straight Connector 21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Straight Connector 22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Straight Connector 23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Straight Connector 24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1076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3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4"/>
          </p:nvPr>
        </p:nvSpPr>
        <p:spPr>
          <a:xfrm>
            <a:off x="6901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AABB-B003-47F9-B6D2-1BC9ED82C9B1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74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76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2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83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84" name="Straight Connector 17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86" name="Rectangle 19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Box 20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Straight Connector 21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Straight Connector 22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Straight Connector 23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Straight Connector 24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2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1076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901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91A9-78FB-4B0B-9684-133D18B05CA4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123920"/>
            <a:ext cx="7772400" cy="249552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2928600" y="3785760"/>
            <a:ext cx="5543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ffffff"/>
              </a:solidFill>
              <a:latin typeface="Microsoft Sans Serif"/>
              <a:ea typeface="LilyUPC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690228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D0EB-3F85-49AA-89EB-4D6DD2C5EC33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8358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499680" y="1600200"/>
            <a:ext cx="8358120" cy="4525920"/>
          </a:xfrm>
          <a:prstGeom prst="rect">
            <a:avLst/>
          </a:prstGeom>
          <a:ln w="0">
            <a:noFill/>
          </a:ln>
        </p:spPr>
      </p:pic>
      <p:sp>
        <p:nvSpPr>
          <p:cNvPr id="722" name="Slide Number Placeholder 34"/>
          <p:cNvSpPr/>
          <p:nvPr/>
        </p:nvSpPr>
        <p:spPr>
          <a:xfrm>
            <a:off x="6902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3B58-78B1-4081-B414-0F1151CEC7A0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39:22Z</dcterms:created>
  <dc:creator>Nenuphar Supavej</dc:creator>
  <dc:description>Template created by Nenuphar Supavej All rights reserved</dc:description>
  <dc:language>en-US</dc:language>
  <cp:lastModifiedBy>Nenuphar S.</cp:lastModifiedBy>
  <dcterms:modified xsi:type="dcterms:W3CDTF">2009-05-29T05:59:38Z</dcterms:modified>
  <cp:revision>323</cp:revision>
  <dc:subject/>
  <dc:title>คณะอักษรศาสตร์</dc:title>
</cp:coreProperties>
</file>