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</p:sldIdLst>
  <p:sldSz cx="9144000" cy="6858000"/>
  <p:notesSz cx="7008813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EF741-C2CE-4606-840B-8C24FA319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828648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1680" y="4010400"/>
            <a:ext cx="828648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C86B7-FEAD-4371-8479-E4411FAE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068764-A0A4-4DCB-BF84-8E2340FB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3CD78B-1591-429A-923A-A1233F91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71320" y="225000"/>
            <a:ext cx="825804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FB3896-878B-441F-BC90-2C02EA2F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71680" y="401040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666E8C-59B0-400C-9015-2EAF63D9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17880" y="401040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446E42-D256-4C25-BDE7-E16ECEFA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71680" y="4010400"/>
            <a:ext cx="828648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97AFB4-49EF-4534-821F-A079F5B4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828648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71680" y="4010400"/>
            <a:ext cx="828648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75AABC-2B32-4565-A3C6-2D57EB15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71680" y="401040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17880" y="401040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54D5A4-3AC4-42B8-BFBD-8AB2F4568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73560" y="159984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5080" y="159984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71680" y="401040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73560" y="401040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5080" y="401040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371B7E-4795-4C2C-8AC4-450AD1B25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B004E4-E60B-4F83-9190-BC458674E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680" y="401040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17880" y="401040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40F8B-5466-40F6-9582-3665C3D37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571680" y="1599840"/>
            <a:ext cx="828648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FE3DBD-052F-4C36-BF18-C90CA572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828648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2325D0-6160-4A0B-80FA-C8A56834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BBF0C5-EF29-4F69-94C8-CC613A2A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00A213-4FC7-49BB-A51B-4169646A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571320" y="225000"/>
            <a:ext cx="825804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A72495-9BB4-4E4D-AD62-056DC85E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71680" y="401040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7F9917-A6E6-4617-838D-88C91F1D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817880" y="401040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3EFBDD-A49A-4229-A629-89A780F7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71680" y="4010400"/>
            <a:ext cx="828648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57FF70-904D-4800-AE40-C94B3861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828648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71680" y="4010400"/>
            <a:ext cx="828648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129A0A-D54E-4CBF-948F-52A7213E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71680" y="401040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817880" y="401040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2962E9-BEA3-4153-B914-6391CCCA3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73560" y="159984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5080" y="159984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71680" y="401040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73560" y="401040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5080" y="401040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D0097-D931-4BCD-B44B-2C52EA623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373560" y="159984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75080" y="159984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71680" y="401040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373560" y="401040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175080" y="401040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5ACC70-C68D-4F61-8864-E724BD763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B943CA-1D14-49F4-9F5F-E4562A81B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571680" y="1599840"/>
            <a:ext cx="828648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F3FE8D-D2DD-4CFE-977A-B2B1282C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828648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1D5B48-40B9-420B-8954-9D68826A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2745B2-C5CE-4C76-8D55-DC65BDF0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C818DB-4D59-460B-AEDB-566022FF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571320" y="225000"/>
            <a:ext cx="825804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13E1B63-4285-4FC0-AD21-FE041845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71680" y="401040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2DBE90-7232-46DD-8D89-DCA856E8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17880" y="401040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776D85A-FC6E-47A7-AE3B-9B6D906F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71680" y="4010400"/>
            <a:ext cx="828648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2A89DD-304F-4803-82E8-5AD56BB1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07310-4161-4193-91DB-6C7D35AE0DB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828648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71680" y="4010400"/>
            <a:ext cx="828648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13DD38-90A7-4F31-B082-6181D469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71680" y="401040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17880" y="401040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5B6D8D5-8CC1-4C7A-854B-0E0C5F6F2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373560" y="159984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5080" y="159984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571680" y="401040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373560" y="401040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5080" y="401040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C54FA4-D589-4EA8-9C2B-CC619BC40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339D89C-ACB0-49F1-B7A5-25DF576D4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571680" y="1599840"/>
            <a:ext cx="828648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1D42E8D-2AD8-4DC8-8C3D-CC0FEFFF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828648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5870BA0-7D17-4BAC-B608-60ED12E2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35B735-2C78-48AA-BEF1-8CCE5F06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2C24B52-0AD4-497C-BA50-525C2CBD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571320" y="225000"/>
            <a:ext cx="825804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8212B40-2FBA-49B5-96CD-B51C8DCF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571680" y="401040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02268EB-C392-4D7D-9D50-C1D6F597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71680" y="1599840"/>
            <a:ext cx="828648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579B9-ECAB-4719-92B7-166A52EE71E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817880" y="401040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2CEA573-0079-494E-890F-AEAFC98C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71680" y="4010400"/>
            <a:ext cx="828648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F84F69A-B23D-4181-986A-64AAA9D2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828648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71680" y="4010400"/>
            <a:ext cx="828648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ACBC3D9-07BA-402E-B2D4-77E47C6C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71680" y="401040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817880" y="401040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8B27A10-397E-4741-86FE-BA475C0F5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373560" y="159984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175080" y="159984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71680" y="401040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373560" y="401040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175080" y="401040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1F12608-2934-456C-9B9B-158C7A421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617CD2-E85B-4CD5-A1E1-17E9D81B9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571680" y="1599840"/>
            <a:ext cx="828648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A68C28-9AE4-41B0-B02F-4A6CD235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828648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22C37A-6926-460F-AC06-DA838FF7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B3D9BE-4545-4DD6-811E-FBB93383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D94093-E395-43CE-9C96-0AF444FD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828648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0A18E-0CBB-481B-B660-9016F5993A5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571320" y="225000"/>
            <a:ext cx="825804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205C84-CA49-496E-8D4A-D18ABD04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71680" y="401040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83B1E3-653B-4FDC-A9E4-655F7EC9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817880" y="401040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D63BD92-BBC5-4906-954B-227A47C0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571680" y="4010400"/>
            <a:ext cx="828648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ED4624-7EBB-480A-8E8A-67E11344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828648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71680" y="4010400"/>
            <a:ext cx="828648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9851CFE-6D38-4693-9C9A-BF06BB30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571680" y="401040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817880" y="401040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BE99F85-A2B2-4FCB-B60E-C937FD6ED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373560" y="159984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175080" y="159984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571680" y="401040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373560" y="401040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175080" y="401040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98B092-6FFB-4CD0-BBE5-EE0D19622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344EB-2EA8-4F53-B229-53B98F23D6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C352A-E7A3-46C3-A948-797CBD40E9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71320" y="225000"/>
            <a:ext cx="825804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C7D97-70DC-4F2C-A5D9-77C64F287E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1680" y="401040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BC87B-68B1-4F0F-A5BB-0B1C342051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71680" y="1599840"/>
            <a:ext cx="828648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F9ACF-19A2-47DE-A31C-89E8D996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17880" y="401040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F216FE-C577-484C-8FB0-B9D961E8E5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1680" y="4010400"/>
            <a:ext cx="828648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481ED-FE01-4699-B06D-97D3EE3EC2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828648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71680" y="4010400"/>
            <a:ext cx="828648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408A1-5531-46AF-9671-335E3270D8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71680" y="401040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17880" y="401040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4F469-658E-4867-A664-5C2E9D39E5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73560" y="159984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5080" y="159984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71680" y="401040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73560" y="401040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5080" y="401040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B125B-181F-419E-9339-FBADC76BF13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A909B3-0B63-4576-9278-58E9DC58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71680" y="1599840"/>
            <a:ext cx="828648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9F73EB-0C29-4AA0-95DA-03C1DD24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828648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3F4148-C8B2-45EE-9AAA-E3C9EF6F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B142ED-4D07-4D0F-97A1-0602DA27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34E281-ED9F-476C-97DB-2464A575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828648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1B591-3911-4AC5-8670-DDF07C3C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71320" y="225000"/>
            <a:ext cx="825804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791B08-2965-4056-AC04-C432604E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71680" y="401040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06C53A-4CE2-4940-A075-8BC1E53F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817880" y="401040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9B295E-3657-43B2-A0B7-8BDD35BF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71680" y="4010400"/>
            <a:ext cx="828648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81A38D-C7F1-4411-848B-8077F16B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828648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71680" y="4010400"/>
            <a:ext cx="828648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39A661-986E-4C77-A102-3CCA1912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71680" y="401040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817880" y="401040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767949-9046-4ECA-98D4-05DE97FB6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73560" y="159984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175080" y="159984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71680" y="401040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73560" y="401040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175080" y="401040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8BE733-EBB9-4E1F-96AA-0C8BEBD8E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C61B37-0B00-443C-8CA4-9F8FB777C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71680" y="1599840"/>
            <a:ext cx="828648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CCF533-0887-45BD-B8F3-BC923A29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828648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22C3DF-A596-46F0-A083-1A9B9402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31F06-2340-47A6-A4B6-3A26606A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EB4EE4-5341-4F8C-9F63-4A7807D6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6B6AD2-9D97-4BBE-97E4-8AA22681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571320" y="225000"/>
            <a:ext cx="825804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65BF56-424E-47FE-A4EC-59B08A82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71680" y="401040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87CD4A-478F-4AAA-91A9-5147E6E2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817880" y="401040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A6ECE8-204B-4202-A246-87584E5C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71680" y="4010400"/>
            <a:ext cx="828648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DBBD27-A062-40EA-9787-82FDB41A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828648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71680" y="4010400"/>
            <a:ext cx="828648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B0B3DE-C071-4D67-A58D-563CD5EB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71680" y="401040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817880" y="401040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89D107-7037-4A35-91F5-84CEBAD5E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73560" y="159984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175080" y="159984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71680" y="401040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73560" y="401040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175080" y="401040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7622C6-7E26-4F9F-B3FD-89CC2BC54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985145-94D8-46EE-B257-F3FD9069A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99EFC-35F6-4091-8571-DC980319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571680" y="1599840"/>
            <a:ext cx="828648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4B7FBD-48B5-4765-BA3E-ED8979DD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828648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74D217-117C-416F-BEB4-512A9645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CC2A5D-54FA-4D81-9062-D8296B76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B22F95-CD88-4717-83E9-514E3FC8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571320" y="225000"/>
            <a:ext cx="825804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26DCE4-46EC-45F1-ACB2-10A42D59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71680" y="401040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287869-DCF2-46FB-822F-21508D7E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817880" y="401040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134D7B-BFC4-4035-9D6A-8A7B7551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71680" y="4010400"/>
            <a:ext cx="828648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FCB219-103E-4DC9-8F5F-52F3DAE1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828648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71680" y="4010400"/>
            <a:ext cx="828648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69D05A-8133-461D-91DF-20ABBBE6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71680" y="401040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817880" y="401040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48CD31-6D66-41AF-9512-169A478C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71320" y="225000"/>
            <a:ext cx="825804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D3AE8-2DEC-4EC6-8554-DD455361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373560" y="159984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75080" y="159984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71680" y="401040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373560" y="401040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175080" y="401040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240A7E-D973-4152-80EB-1292F5E74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92F49F-28FD-407B-BB95-60B181FE6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571680" y="1599840"/>
            <a:ext cx="828648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EA647B-14B1-4C1E-9B54-4D538916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828648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6E7F47-57D5-47C4-86BE-73747C87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A155CC-8E5A-42E9-BCE4-C4E5B2CC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6A2939-C711-417D-93C1-91192E5C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571320" y="225000"/>
            <a:ext cx="825804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1B8E04-C2AE-4644-B775-2C0B799A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680" y="401040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EEAD0D-8DBF-447F-B776-16548F61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17880" y="401040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87DE63-EBA5-4C04-92D0-BBC6BD2F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71680" y="4010400"/>
            <a:ext cx="828648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BC7215-1173-4419-888B-8AE40348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1680" y="401040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CAAFE-C822-482C-B170-720986EE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828648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71680" y="4010400"/>
            <a:ext cx="828648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90EE80-B425-4E48-85D6-FA022EE4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71680" y="401040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17880" y="401040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3F9336-D8FB-4826-AEEB-7339906DA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73560" y="159984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75080" y="159984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571680" y="401040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373560" y="401040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75080" y="401040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11245A-486E-4BD5-AF6C-7BE7CD631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00AD61-33B2-4566-B380-388FBF1BD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571680" y="1599840"/>
            <a:ext cx="828648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646803-6E21-4582-B249-8862F963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828648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28EE22-8365-48A6-BC8B-5CF0F1B5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F809E9-8719-48B3-A4A1-57C4904A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297953-46DA-425D-9811-E4052817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571320" y="225000"/>
            <a:ext cx="825804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4176C0-E650-4830-A922-5D592E6A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71680" y="401040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6D2BE7-7667-4A6E-A0D4-5522411C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17880" y="401040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97C66-05C6-406F-A3F9-3480582A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17880" y="401040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CB0D9B-6826-4AD7-A853-715D7849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71680" y="4010400"/>
            <a:ext cx="828648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81B102-D738-45F9-8AE9-7B7EB8BC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828648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71680" y="4010400"/>
            <a:ext cx="828648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E26222-0A25-4C07-BF31-A805059C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71680" y="401040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17880" y="401040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488765-45C2-441F-9CB1-478D7D05C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73560" y="159984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5080" y="159984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571680" y="401040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73560" y="401040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5080" y="401040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63C4D5-D712-4CB6-8759-913E09272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31F9E7-C753-4DE9-850E-CBC60E84D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571680" y="1599840"/>
            <a:ext cx="828648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3B7E72-98A8-4598-B496-5FBB7C93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828648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F62AC0-489A-4E57-BFC5-8ED0EFC1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06B665-9AED-487E-8286-61B21B2E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49AD5F-E7E1-4100-873A-632C60B0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71680" y="4010400"/>
            <a:ext cx="828648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E0F18-B2B2-4CC5-8374-62A3AE3F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71320" y="225000"/>
            <a:ext cx="825804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5EE98A-CC0E-4639-BFED-F2E371A5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71680" y="401040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F51B35-26AF-4424-8CD6-F656EC11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817880" y="401040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62D9A0-4DBE-4299-8297-B70FAD48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71680" y="4010400"/>
            <a:ext cx="828648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774717-69A7-4BCF-8D81-A79A6676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828648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71680" y="4010400"/>
            <a:ext cx="828648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92E3D7-2138-456A-AAE5-A1DC2BEB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17880" y="159984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71680" y="401040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817880" y="4010400"/>
            <a:ext cx="40435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075B10-DEC8-4901-ABB9-843AE6E94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3560" y="159984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175080" y="159984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571680" y="401040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3560" y="401040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175080" y="4010400"/>
            <a:ext cx="2667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E917E3-0008-4C58-A7F3-9D0B4F671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79D71A-9715-4A56-B368-9ADE71D27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71680" y="1599840"/>
            <a:ext cx="828648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75466B-635F-438F-A7A9-2E09A82B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828648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A21528-1F47-4765-A1A9-B1A42FFB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b9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537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680" y="1599840"/>
            <a:ext cx="828648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d53786"/>
              </a:buClr>
              <a:buSzPct val="70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8f8f8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2f2f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71760" y="6552720"/>
            <a:ext cx="4929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643440" y="6524280"/>
            <a:ext cx="669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04DA-D201-4064-9291-C255E222E860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30"/>
          <p:cNvSpPr/>
          <p:nvPr/>
        </p:nvSpPr>
        <p:spPr>
          <a:xfrm>
            <a:off x="357120" y="0"/>
            <a:ext cx="8786880" cy="214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31"/>
          <p:cNvSpPr/>
          <p:nvPr/>
        </p:nvSpPr>
        <p:spPr>
          <a:xfrm>
            <a:off x="0" y="1143000"/>
            <a:ext cx="9144000" cy="142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32"/>
          <p:cNvSpPr/>
          <p:nvPr/>
        </p:nvSpPr>
        <p:spPr>
          <a:xfrm>
            <a:off x="1071720" y="1370160"/>
            <a:ext cx="8072280" cy="71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3"/>
          <p:cNvSpPr/>
          <p:nvPr/>
        </p:nvSpPr>
        <p:spPr>
          <a:xfrm>
            <a:off x="0" y="0"/>
            <a:ext cx="42876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4"/>
          <p:cNvSpPr/>
          <p:nvPr/>
        </p:nvSpPr>
        <p:spPr>
          <a:xfrm>
            <a:off x="347760" y="0"/>
            <a:ext cx="2142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dt" idx="3"/>
          </p:nvPr>
        </p:nvSpPr>
        <p:spPr>
          <a:xfrm>
            <a:off x="108000" y="6552720"/>
            <a:ext cx="124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b9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30"/>
          <p:cNvSpPr/>
          <p:nvPr/>
        </p:nvSpPr>
        <p:spPr>
          <a:xfrm>
            <a:off x="357120" y="0"/>
            <a:ext cx="8786880" cy="214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31"/>
          <p:cNvSpPr/>
          <p:nvPr/>
        </p:nvSpPr>
        <p:spPr>
          <a:xfrm>
            <a:off x="0" y="1143000"/>
            <a:ext cx="9144000" cy="142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32"/>
          <p:cNvSpPr/>
          <p:nvPr/>
        </p:nvSpPr>
        <p:spPr>
          <a:xfrm>
            <a:off x="1071720" y="1370160"/>
            <a:ext cx="8072280" cy="71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3"/>
          <p:cNvSpPr/>
          <p:nvPr/>
        </p:nvSpPr>
        <p:spPr>
          <a:xfrm>
            <a:off x="0" y="0"/>
            <a:ext cx="42876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4"/>
          <p:cNvSpPr/>
          <p:nvPr/>
        </p:nvSpPr>
        <p:spPr>
          <a:xfrm>
            <a:off x="347760" y="0"/>
            <a:ext cx="2142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1" descr="artslogo-for-whitebg.gif"/>
          <p:cNvPicPr/>
          <p:nvPr/>
        </p:nvPicPr>
        <p:blipFill>
          <a:blip r:embed="rId2"/>
          <a:stretch/>
        </p:blipFill>
        <p:spPr>
          <a:xfrm>
            <a:off x="7286760" y="6289560"/>
            <a:ext cx="1857240" cy="56844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537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571680" y="1599840"/>
            <a:ext cx="828648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d53786"/>
              </a:buClr>
              <a:buSzPct val="70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8f8f8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2f2f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27"/>
          </p:nvPr>
        </p:nvSpPr>
        <p:spPr>
          <a:xfrm>
            <a:off x="108000" y="6552720"/>
            <a:ext cx="124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8"/>
          </p:nvPr>
        </p:nvSpPr>
        <p:spPr>
          <a:xfrm>
            <a:off x="1571760" y="6552720"/>
            <a:ext cx="4929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29"/>
          </p:nvPr>
        </p:nvSpPr>
        <p:spPr>
          <a:xfrm>
            <a:off x="6643440" y="6524280"/>
            <a:ext cx="669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2BF5-403B-4361-976E-94EB4F3CDDA6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b9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30"/>
          <p:cNvSpPr/>
          <p:nvPr/>
        </p:nvSpPr>
        <p:spPr>
          <a:xfrm>
            <a:off x="357120" y="0"/>
            <a:ext cx="8786880" cy="214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1"/>
          <p:cNvSpPr/>
          <p:nvPr/>
        </p:nvSpPr>
        <p:spPr>
          <a:xfrm>
            <a:off x="0" y="1143000"/>
            <a:ext cx="9144000" cy="142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32"/>
          <p:cNvSpPr/>
          <p:nvPr/>
        </p:nvSpPr>
        <p:spPr>
          <a:xfrm>
            <a:off x="1071720" y="1370160"/>
            <a:ext cx="8072280" cy="71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33"/>
          <p:cNvSpPr/>
          <p:nvPr/>
        </p:nvSpPr>
        <p:spPr>
          <a:xfrm>
            <a:off x="0" y="0"/>
            <a:ext cx="42876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34"/>
          <p:cNvSpPr/>
          <p:nvPr/>
        </p:nvSpPr>
        <p:spPr>
          <a:xfrm>
            <a:off x="347760" y="0"/>
            <a:ext cx="2142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11" descr="artslogo-for-whitebg.gif"/>
          <p:cNvPicPr/>
          <p:nvPr/>
        </p:nvPicPr>
        <p:blipFill>
          <a:blip r:embed="rId2"/>
          <a:stretch/>
        </p:blipFill>
        <p:spPr>
          <a:xfrm>
            <a:off x="7286760" y="6289560"/>
            <a:ext cx="1857240" cy="56844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537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571680" y="1599840"/>
            <a:ext cx="828648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d53786"/>
              </a:buClr>
              <a:buSzPct val="70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8f8f8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2f2f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0"/>
          </p:nvPr>
        </p:nvSpPr>
        <p:spPr>
          <a:xfrm>
            <a:off x="108000" y="6552720"/>
            <a:ext cx="124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1"/>
          </p:nvPr>
        </p:nvSpPr>
        <p:spPr>
          <a:xfrm>
            <a:off x="1571760" y="6552720"/>
            <a:ext cx="4929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2"/>
          </p:nvPr>
        </p:nvSpPr>
        <p:spPr>
          <a:xfrm>
            <a:off x="6643440" y="6524280"/>
            <a:ext cx="669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0278-26E0-48A5-980D-95C75569C130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b9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30"/>
          <p:cNvSpPr/>
          <p:nvPr/>
        </p:nvSpPr>
        <p:spPr>
          <a:xfrm>
            <a:off x="357120" y="0"/>
            <a:ext cx="8786880" cy="214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31"/>
          <p:cNvSpPr/>
          <p:nvPr/>
        </p:nvSpPr>
        <p:spPr>
          <a:xfrm>
            <a:off x="0" y="1143000"/>
            <a:ext cx="9144000" cy="142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32"/>
          <p:cNvSpPr/>
          <p:nvPr/>
        </p:nvSpPr>
        <p:spPr>
          <a:xfrm>
            <a:off x="1071720" y="1370160"/>
            <a:ext cx="8072280" cy="71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3"/>
          <p:cNvSpPr/>
          <p:nvPr/>
        </p:nvSpPr>
        <p:spPr>
          <a:xfrm>
            <a:off x="0" y="0"/>
            <a:ext cx="42876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4"/>
          <p:cNvSpPr/>
          <p:nvPr/>
        </p:nvSpPr>
        <p:spPr>
          <a:xfrm>
            <a:off x="347760" y="0"/>
            <a:ext cx="2142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11" descr="artslogo-for-whitebg.gif"/>
          <p:cNvPicPr/>
          <p:nvPr/>
        </p:nvPicPr>
        <p:blipFill>
          <a:blip r:embed="rId2"/>
          <a:stretch/>
        </p:blipFill>
        <p:spPr>
          <a:xfrm>
            <a:off x="7286760" y="6289560"/>
            <a:ext cx="1857240" cy="56844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537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571680" y="1599840"/>
            <a:ext cx="828648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d53786"/>
              </a:buClr>
              <a:buSzPct val="70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8f8f8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2f2f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3"/>
          </p:nvPr>
        </p:nvSpPr>
        <p:spPr>
          <a:xfrm>
            <a:off x="108000" y="6552720"/>
            <a:ext cx="124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4"/>
          </p:nvPr>
        </p:nvSpPr>
        <p:spPr>
          <a:xfrm>
            <a:off x="1571760" y="6552720"/>
            <a:ext cx="4929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5"/>
          </p:nvPr>
        </p:nvSpPr>
        <p:spPr>
          <a:xfrm>
            <a:off x="6643440" y="6524280"/>
            <a:ext cx="669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04E8-7B97-4329-BAE2-33C45E146592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b9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30"/>
          <p:cNvSpPr/>
          <p:nvPr/>
        </p:nvSpPr>
        <p:spPr>
          <a:xfrm>
            <a:off x="357120" y="0"/>
            <a:ext cx="8786880" cy="214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31"/>
          <p:cNvSpPr/>
          <p:nvPr/>
        </p:nvSpPr>
        <p:spPr>
          <a:xfrm>
            <a:off x="0" y="1143000"/>
            <a:ext cx="9144000" cy="142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2"/>
          <p:cNvSpPr/>
          <p:nvPr/>
        </p:nvSpPr>
        <p:spPr>
          <a:xfrm>
            <a:off x="1071720" y="1370160"/>
            <a:ext cx="8072280" cy="71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33"/>
          <p:cNvSpPr/>
          <p:nvPr/>
        </p:nvSpPr>
        <p:spPr>
          <a:xfrm>
            <a:off x="0" y="0"/>
            <a:ext cx="42876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34"/>
          <p:cNvSpPr/>
          <p:nvPr/>
        </p:nvSpPr>
        <p:spPr>
          <a:xfrm>
            <a:off x="347760" y="0"/>
            <a:ext cx="2142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11" descr="artslogo-for-whitebg.gif"/>
          <p:cNvPicPr/>
          <p:nvPr/>
        </p:nvPicPr>
        <p:blipFill>
          <a:blip r:embed="rId2"/>
          <a:stretch/>
        </p:blipFill>
        <p:spPr>
          <a:xfrm>
            <a:off x="7286760" y="6289560"/>
            <a:ext cx="1857240" cy="56844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537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571680" y="1599840"/>
            <a:ext cx="828648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d53786"/>
              </a:buClr>
              <a:buSzPct val="70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8f8f8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2f2f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36"/>
          </p:nvPr>
        </p:nvSpPr>
        <p:spPr>
          <a:xfrm>
            <a:off x="108000" y="6552720"/>
            <a:ext cx="124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37"/>
          </p:nvPr>
        </p:nvSpPr>
        <p:spPr>
          <a:xfrm>
            <a:off x="1571760" y="6552720"/>
            <a:ext cx="4929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38"/>
          </p:nvPr>
        </p:nvSpPr>
        <p:spPr>
          <a:xfrm>
            <a:off x="6643440" y="6524280"/>
            <a:ext cx="669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8FF9-17B2-429B-8D13-D242A707D325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b9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0"/>
          <p:cNvSpPr/>
          <p:nvPr/>
        </p:nvSpPr>
        <p:spPr>
          <a:xfrm>
            <a:off x="357120" y="0"/>
            <a:ext cx="8786880" cy="214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1"/>
          <p:cNvSpPr/>
          <p:nvPr/>
        </p:nvSpPr>
        <p:spPr>
          <a:xfrm>
            <a:off x="0" y="1143000"/>
            <a:ext cx="9144000" cy="142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2"/>
          <p:cNvSpPr/>
          <p:nvPr/>
        </p:nvSpPr>
        <p:spPr>
          <a:xfrm>
            <a:off x="1071720" y="1370160"/>
            <a:ext cx="8072280" cy="71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3"/>
          <p:cNvSpPr/>
          <p:nvPr/>
        </p:nvSpPr>
        <p:spPr>
          <a:xfrm>
            <a:off x="0" y="0"/>
            <a:ext cx="42876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4"/>
          <p:cNvSpPr/>
          <p:nvPr/>
        </p:nvSpPr>
        <p:spPr>
          <a:xfrm>
            <a:off x="347760" y="0"/>
            <a:ext cx="2142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357120" y="1714680"/>
            <a:ext cx="878688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357120" y="1809720"/>
            <a:ext cx="878688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428760" y="0"/>
            <a:ext cx="50004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71720" y="0"/>
            <a:ext cx="2142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0" y="2630520"/>
            <a:ext cx="9144000" cy="142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artsbanner copy.gif"/>
          <p:cNvPicPr/>
          <p:nvPr/>
        </p:nvPicPr>
        <p:blipFill>
          <a:blip r:embed="rId2"/>
          <a:srcRect l="0" t="0" r="0" b="2571"/>
          <a:stretch/>
        </p:blipFill>
        <p:spPr>
          <a:xfrm>
            <a:off x="0" y="928800"/>
            <a:ext cx="9144000" cy="16984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7"/>
          <p:cNvSpPr/>
          <p:nvPr/>
        </p:nvSpPr>
        <p:spPr>
          <a:xfrm>
            <a:off x="0" y="428760"/>
            <a:ext cx="9144000" cy="214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1071720" y="2857680"/>
            <a:ext cx="8072280" cy="71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9" descr="artslogo.png"/>
          <p:cNvPicPr/>
          <p:nvPr/>
        </p:nvPicPr>
        <p:blipFill>
          <a:blip r:embed="rId3"/>
          <a:stretch/>
        </p:blipFill>
        <p:spPr>
          <a:xfrm>
            <a:off x="6072120" y="0"/>
            <a:ext cx="3038400" cy="928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537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571680" y="1599840"/>
            <a:ext cx="828648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d53786"/>
              </a:buClr>
              <a:buSzPct val="70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8f8f8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2f2f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4"/>
          </p:nvPr>
        </p:nvSpPr>
        <p:spPr>
          <a:xfrm>
            <a:off x="8473680" y="6524640"/>
            <a:ext cx="6699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13F0-36A7-40E6-8A45-706794E68F3F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1999800" y="6552720"/>
            <a:ext cx="6286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b9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0"/>
          <p:cNvSpPr/>
          <p:nvPr/>
        </p:nvSpPr>
        <p:spPr>
          <a:xfrm>
            <a:off x="357120" y="0"/>
            <a:ext cx="8786880" cy="214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1"/>
          <p:cNvSpPr/>
          <p:nvPr/>
        </p:nvSpPr>
        <p:spPr>
          <a:xfrm>
            <a:off x="0" y="1143000"/>
            <a:ext cx="9144000" cy="142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2"/>
          <p:cNvSpPr/>
          <p:nvPr/>
        </p:nvSpPr>
        <p:spPr>
          <a:xfrm>
            <a:off x="1071720" y="1370160"/>
            <a:ext cx="8072280" cy="71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3"/>
          <p:cNvSpPr/>
          <p:nvPr/>
        </p:nvSpPr>
        <p:spPr>
          <a:xfrm>
            <a:off x="0" y="0"/>
            <a:ext cx="42876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4"/>
          <p:cNvSpPr/>
          <p:nvPr/>
        </p:nvSpPr>
        <p:spPr>
          <a:xfrm>
            <a:off x="347760" y="0"/>
            <a:ext cx="2142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1" descr="artslogo-for-whitebg.gif"/>
          <p:cNvPicPr/>
          <p:nvPr/>
        </p:nvPicPr>
        <p:blipFill>
          <a:blip r:embed="rId2"/>
          <a:stretch/>
        </p:blipFill>
        <p:spPr>
          <a:xfrm>
            <a:off x="7286760" y="6289560"/>
            <a:ext cx="1857240" cy="5684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537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571680" y="1599840"/>
            <a:ext cx="828648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d53786"/>
              </a:buClr>
              <a:buSzPct val="70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8f8f8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2f2f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6"/>
          </p:nvPr>
        </p:nvSpPr>
        <p:spPr>
          <a:xfrm>
            <a:off x="108000" y="6552720"/>
            <a:ext cx="124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7"/>
          </p:nvPr>
        </p:nvSpPr>
        <p:spPr>
          <a:xfrm>
            <a:off x="1571760" y="6552720"/>
            <a:ext cx="4929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8"/>
          </p:nvPr>
        </p:nvSpPr>
        <p:spPr>
          <a:xfrm>
            <a:off x="6643440" y="6524280"/>
            <a:ext cx="669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C124-3714-4391-95A7-3E3A6C3A3873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b9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0"/>
          <p:cNvSpPr/>
          <p:nvPr/>
        </p:nvSpPr>
        <p:spPr>
          <a:xfrm>
            <a:off x="357120" y="0"/>
            <a:ext cx="8786880" cy="214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1"/>
          <p:cNvSpPr/>
          <p:nvPr/>
        </p:nvSpPr>
        <p:spPr>
          <a:xfrm>
            <a:off x="0" y="1143000"/>
            <a:ext cx="9144000" cy="142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2"/>
          <p:cNvSpPr/>
          <p:nvPr/>
        </p:nvSpPr>
        <p:spPr>
          <a:xfrm>
            <a:off x="1071720" y="1370160"/>
            <a:ext cx="8072280" cy="71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3"/>
          <p:cNvSpPr/>
          <p:nvPr/>
        </p:nvSpPr>
        <p:spPr>
          <a:xfrm>
            <a:off x="0" y="0"/>
            <a:ext cx="42876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4"/>
          <p:cNvSpPr/>
          <p:nvPr/>
        </p:nvSpPr>
        <p:spPr>
          <a:xfrm>
            <a:off x="347760" y="0"/>
            <a:ext cx="2142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1" descr="artslogo-for-whitebg.gif"/>
          <p:cNvPicPr/>
          <p:nvPr/>
        </p:nvPicPr>
        <p:blipFill>
          <a:blip r:embed="rId2"/>
          <a:stretch/>
        </p:blipFill>
        <p:spPr>
          <a:xfrm>
            <a:off x="7286760" y="6289560"/>
            <a:ext cx="1857240" cy="5684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537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571680" y="1599840"/>
            <a:ext cx="828648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d53786"/>
              </a:buClr>
              <a:buSzPct val="70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8f8f8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2f2f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9"/>
          </p:nvPr>
        </p:nvSpPr>
        <p:spPr>
          <a:xfrm>
            <a:off x="108000" y="6552720"/>
            <a:ext cx="124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0"/>
          </p:nvPr>
        </p:nvSpPr>
        <p:spPr>
          <a:xfrm>
            <a:off x="1571760" y="6552720"/>
            <a:ext cx="4929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1"/>
          </p:nvPr>
        </p:nvSpPr>
        <p:spPr>
          <a:xfrm>
            <a:off x="6643440" y="6524280"/>
            <a:ext cx="669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F296-C32E-46A4-9FD2-506850DE27DF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b9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0"/>
          <p:cNvSpPr/>
          <p:nvPr/>
        </p:nvSpPr>
        <p:spPr>
          <a:xfrm>
            <a:off x="357120" y="0"/>
            <a:ext cx="8786880" cy="214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1"/>
          <p:cNvSpPr/>
          <p:nvPr/>
        </p:nvSpPr>
        <p:spPr>
          <a:xfrm>
            <a:off x="0" y="1143000"/>
            <a:ext cx="9144000" cy="142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2"/>
          <p:cNvSpPr/>
          <p:nvPr/>
        </p:nvSpPr>
        <p:spPr>
          <a:xfrm>
            <a:off x="1071720" y="1370160"/>
            <a:ext cx="8072280" cy="71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3"/>
          <p:cNvSpPr/>
          <p:nvPr/>
        </p:nvSpPr>
        <p:spPr>
          <a:xfrm>
            <a:off x="0" y="0"/>
            <a:ext cx="42876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4"/>
          <p:cNvSpPr/>
          <p:nvPr/>
        </p:nvSpPr>
        <p:spPr>
          <a:xfrm>
            <a:off x="347760" y="0"/>
            <a:ext cx="2142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1" descr="artslogo-for-whitebg.gif"/>
          <p:cNvPicPr/>
          <p:nvPr/>
        </p:nvPicPr>
        <p:blipFill>
          <a:blip r:embed="rId2"/>
          <a:stretch/>
        </p:blipFill>
        <p:spPr>
          <a:xfrm>
            <a:off x="7286760" y="6289560"/>
            <a:ext cx="1857240" cy="5684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537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571680" y="1599840"/>
            <a:ext cx="828648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d53786"/>
              </a:buClr>
              <a:buSzPct val="70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8f8f8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2f2f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2"/>
          </p:nvPr>
        </p:nvSpPr>
        <p:spPr>
          <a:xfrm>
            <a:off x="108000" y="6552720"/>
            <a:ext cx="124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3"/>
          </p:nvPr>
        </p:nvSpPr>
        <p:spPr>
          <a:xfrm>
            <a:off x="1571760" y="6552720"/>
            <a:ext cx="4929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4"/>
          </p:nvPr>
        </p:nvSpPr>
        <p:spPr>
          <a:xfrm>
            <a:off x="6643440" y="6524280"/>
            <a:ext cx="669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EDB2-3E27-405E-A9C2-110E4C17837D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b9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30"/>
          <p:cNvSpPr/>
          <p:nvPr/>
        </p:nvSpPr>
        <p:spPr>
          <a:xfrm>
            <a:off x="357120" y="0"/>
            <a:ext cx="8786880" cy="214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1"/>
          <p:cNvSpPr/>
          <p:nvPr/>
        </p:nvSpPr>
        <p:spPr>
          <a:xfrm>
            <a:off x="0" y="1143000"/>
            <a:ext cx="9144000" cy="142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2"/>
          <p:cNvSpPr/>
          <p:nvPr/>
        </p:nvSpPr>
        <p:spPr>
          <a:xfrm>
            <a:off x="1071720" y="1370160"/>
            <a:ext cx="8072280" cy="71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3"/>
          <p:cNvSpPr/>
          <p:nvPr/>
        </p:nvSpPr>
        <p:spPr>
          <a:xfrm>
            <a:off x="0" y="0"/>
            <a:ext cx="42876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4"/>
          <p:cNvSpPr/>
          <p:nvPr/>
        </p:nvSpPr>
        <p:spPr>
          <a:xfrm>
            <a:off x="347760" y="0"/>
            <a:ext cx="2142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31"/>
          <p:cNvSpPr/>
          <p:nvPr/>
        </p:nvSpPr>
        <p:spPr>
          <a:xfrm>
            <a:off x="8072280" y="1285920"/>
            <a:ext cx="190800" cy="39600"/>
          </a:xfrm>
          <a:prstGeom prst="pie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2" descr="artslogo-for-whitebg.gif"/>
          <p:cNvPicPr/>
          <p:nvPr/>
        </p:nvPicPr>
        <p:blipFill>
          <a:blip r:embed="rId2"/>
          <a:stretch/>
        </p:blipFill>
        <p:spPr>
          <a:xfrm>
            <a:off x="7286760" y="6289560"/>
            <a:ext cx="1857240" cy="568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537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571680" y="1599840"/>
            <a:ext cx="828648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d53786"/>
              </a:buClr>
              <a:buSzPct val="70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8f8f8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2f2f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5"/>
          </p:nvPr>
        </p:nvSpPr>
        <p:spPr>
          <a:xfrm>
            <a:off x="108000" y="6552720"/>
            <a:ext cx="124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6"/>
          </p:nvPr>
        </p:nvSpPr>
        <p:spPr>
          <a:xfrm>
            <a:off x="1571760" y="6552720"/>
            <a:ext cx="4929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7"/>
          </p:nvPr>
        </p:nvSpPr>
        <p:spPr>
          <a:xfrm>
            <a:off x="6643440" y="6524280"/>
            <a:ext cx="669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7498-6E97-456A-895B-80029BA5788F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b9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30"/>
          <p:cNvSpPr/>
          <p:nvPr/>
        </p:nvSpPr>
        <p:spPr>
          <a:xfrm>
            <a:off x="357120" y="0"/>
            <a:ext cx="8786880" cy="214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1"/>
          <p:cNvSpPr/>
          <p:nvPr/>
        </p:nvSpPr>
        <p:spPr>
          <a:xfrm>
            <a:off x="0" y="1143000"/>
            <a:ext cx="9144000" cy="142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2"/>
          <p:cNvSpPr/>
          <p:nvPr/>
        </p:nvSpPr>
        <p:spPr>
          <a:xfrm>
            <a:off x="1071720" y="1370160"/>
            <a:ext cx="8072280" cy="71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3"/>
          <p:cNvSpPr/>
          <p:nvPr/>
        </p:nvSpPr>
        <p:spPr>
          <a:xfrm>
            <a:off x="0" y="0"/>
            <a:ext cx="42876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4"/>
          <p:cNvSpPr/>
          <p:nvPr/>
        </p:nvSpPr>
        <p:spPr>
          <a:xfrm>
            <a:off x="347760" y="0"/>
            <a:ext cx="2142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1" descr="artslogo-for-whitebg.gif"/>
          <p:cNvPicPr/>
          <p:nvPr/>
        </p:nvPicPr>
        <p:blipFill>
          <a:blip r:embed="rId2"/>
          <a:stretch/>
        </p:blipFill>
        <p:spPr>
          <a:xfrm>
            <a:off x="7286760" y="6289560"/>
            <a:ext cx="1857240" cy="5684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537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571680" y="1599840"/>
            <a:ext cx="828648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d53786"/>
              </a:buClr>
              <a:buSzPct val="70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8f8f8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2f2f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8"/>
          </p:nvPr>
        </p:nvSpPr>
        <p:spPr>
          <a:xfrm>
            <a:off x="108000" y="6552720"/>
            <a:ext cx="124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19"/>
          </p:nvPr>
        </p:nvSpPr>
        <p:spPr>
          <a:xfrm>
            <a:off x="1571760" y="6552720"/>
            <a:ext cx="4929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0"/>
          </p:nvPr>
        </p:nvSpPr>
        <p:spPr>
          <a:xfrm>
            <a:off x="6643440" y="6524280"/>
            <a:ext cx="669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60D2-8704-4E6D-910B-8FF25F2E53EE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b9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30"/>
          <p:cNvSpPr/>
          <p:nvPr/>
        </p:nvSpPr>
        <p:spPr>
          <a:xfrm>
            <a:off x="357120" y="0"/>
            <a:ext cx="8786880" cy="214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1"/>
          <p:cNvSpPr/>
          <p:nvPr/>
        </p:nvSpPr>
        <p:spPr>
          <a:xfrm>
            <a:off x="0" y="1143000"/>
            <a:ext cx="9144000" cy="142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2"/>
          <p:cNvSpPr/>
          <p:nvPr/>
        </p:nvSpPr>
        <p:spPr>
          <a:xfrm>
            <a:off x="1071720" y="1370160"/>
            <a:ext cx="8072280" cy="71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3"/>
          <p:cNvSpPr/>
          <p:nvPr/>
        </p:nvSpPr>
        <p:spPr>
          <a:xfrm>
            <a:off x="0" y="0"/>
            <a:ext cx="42876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4"/>
          <p:cNvSpPr/>
          <p:nvPr/>
        </p:nvSpPr>
        <p:spPr>
          <a:xfrm>
            <a:off x="347760" y="0"/>
            <a:ext cx="2142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11" descr="artslogo-for-whitebg.gif"/>
          <p:cNvPicPr/>
          <p:nvPr/>
        </p:nvPicPr>
        <p:blipFill>
          <a:blip r:embed="rId2"/>
          <a:stretch/>
        </p:blipFill>
        <p:spPr>
          <a:xfrm>
            <a:off x="7286760" y="6289560"/>
            <a:ext cx="1857240" cy="5684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537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571680" y="1599840"/>
            <a:ext cx="828648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d53786"/>
              </a:buClr>
              <a:buSzPct val="70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8f8f8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2f2f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1"/>
          </p:nvPr>
        </p:nvSpPr>
        <p:spPr>
          <a:xfrm>
            <a:off x="108000" y="6552720"/>
            <a:ext cx="124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2"/>
          </p:nvPr>
        </p:nvSpPr>
        <p:spPr>
          <a:xfrm>
            <a:off x="1571760" y="6552720"/>
            <a:ext cx="4929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3"/>
          </p:nvPr>
        </p:nvSpPr>
        <p:spPr>
          <a:xfrm>
            <a:off x="6643440" y="6524280"/>
            <a:ext cx="669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2718-DCF6-4A51-997A-C49C063C223A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b9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30"/>
          <p:cNvSpPr/>
          <p:nvPr/>
        </p:nvSpPr>
        <p:spPr>
          <a:xfrm>
            <a:off x="357120" y="0"/>
            <a:ext cx="8786880" cy="214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1"/>
          <p:cNvSpPr/>
          <p:nvPr/>
        </p:nvSpPr>
        <p:spPr>
          <a:xfrm>
            <a:off x="0" y="1143000"/>
            <a:ext cx="9144000" cy="142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2"/>
          <p:cNvSpPr/>
          <p:nvPr/>
        </p:nvSpPr>
        <p:spPr>
          <a:xfrm>
            <a:off x="1071720" y="1370160"/>
            <a:ext cx="8072280" cy="71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3"/>
          <p:cNvSpPr/>
          <p:nvPr/>
        </p:nvSpPr>
        <p:spPr>
          <a:xfrm>
            <a:off x="0" y="0"/>
            <a:ext cx="42876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7760" y="0"/>
            <a:ext cx="2142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1" descr="artslogo-for-whitebg.gif"/>
          <p:cNvPicPr/>
          <p:nvPr/>
        </p:nvPicPr>
        <p:blipFill>
          <a:blip r:embed="rId2"/>
          <a:stretch/>
        </p:blipFill>
        <p:spPr>
          <a:xfrm>
            <a:off x="7286760" y="6289560"/>
            <a:ext cx="1857240" cy="56844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537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71680" y="1599840"/>
            <a:ext cx="828648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d53786"/>
              </a:buClr>
              <a:buSzPct val="70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8f8f8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2f2f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2f2f2"/>
              </a:solidFill>
              <a:latin typeface="Microsoft Sans Serif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4"/>
          </p:nvPr>
        </p:nvSpPr>
        <p:spPr>
          <a:xfrm>
            <a:off x="108000" y="6552720"/>
            <a:ext cx="124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5"/>
          </p:nvPr>
        </p:nvSpPr>
        <p:spPr>
          <a:xfrm>
            <a:off x="1571760" y="6552720"/>
            <a:ext cx="4929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6"/>
          </p:nvPr>
        </p:nvSpPr>
        <p:spPr>
          <a:xfrm>
            <a:off x="6643440" y="6524280"/>
            <a:ext cx="669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D623-BF00-4984-B0F9-DB628338BCFB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285560" y="2643120"/>
            <a:ext cx="745812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400" spc="-1" strike="noStrike">
              <a:solidFill>
                <a:srgbClr val="d5378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2571480" y="4357800"/>
            <a:ext cx="614340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8474040" y="6524640"/>
            <a:ext cx="6699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F825-82B2-4FA2-8B25-975DD9A3A838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71320" y="22500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400" spc="-1" strike="noStrike">
              <a:solidFill>
                <a:srgbClr val="d53786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571680" y="1600200"/>
            <a:ext cx="8286480" cy="4525920"/>
          </a:xfrm>
          <a:prstGeom prst="rect">
            <a:avLst/>
          </a:prstGeom>
          <a:ln w="0">
            <a:noFill/>
          </a:ln>
        </p:spPr>
      </p:pic>
      <p:sp>
        <p:nvSpPr>
          <p:cNvPr id="623" name="Slide Number Placeholder 3"/>
          <p:cNvSpPr/>
          <p:nvPr/>
        </p:nvSpPr>
        <p:spPr>
          <a:xfrm>
            <a:off x="6643800" y="6524640"/>
            <a:ext cx="669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1E28-C138-4452-8E8F-621667D67B6E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06:39:22Z</dcterms:created>
  <dc:creator>Nenuphar Supavej</dc:creator>
  <dc:description>Template created by Nenuphar Supavej. All rights reserved</dc:description>
  <dc:language>en-US</dc:language>
  <cp:lastModifiedBy>Nenuphar S.</cp:lastModifiedBy>
  <dcterms:modified xsi:type="dcterms:W3CDTF">2009-06-05T04:51:05Z</dcterms:modified>
  <cp:revision>300</cp:revision>
  <dc:subject/>
  <dc:title>คณะอักษรศาสตร์</dc:title>
</cp:coreProperties>
</file>