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1F7-3DD6-48DD-8849-9E99BF7D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14684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903-0916-4244-9EE2-FAA31A5A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14684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14684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F0E-154F-46BB-B2DD-96F4DA6D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7827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7827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14684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414684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414684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AE0-BDA7-4800-B61C-E0FABEB3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88E0-5535-4D05-897D-103674DC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9280" y="1782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7691-28FE-4B21-A921-3BE1FA71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0FC8-40D2-4045-96A3-A4ABE146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78272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1208-693C-4C3E-B952-269B6CB5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CE78-4CE7-487B-BC90-63CF6D36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9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17FD-01E7-47EA-8ACD-69928096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78272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9280" y="414684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5D27-A631-4454-BB9E-8DC0C94A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782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261-18F7-498D-8C32-8E3194B2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1440" y="414684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2932-A915-48AC-9AEF-F286452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9280" y="414684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854B-E2CF-4681-A904-8516BB8C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9280" y="414684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F24D-CCE8-4945-B583-55B52520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9280" y="414684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1440" y="414684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E381-780E-4030-87A0-96D749D3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49640" y="17827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0000" y="17827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9280" y="414684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49640" y="414684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0000" y="414684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16EB-3839-45D6-8201-A1B43D47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232-2FA5-413D-AB04-C8E96D3B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78272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842-B62B-4F58-B8FC-51F2556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E01-96B0-4A16-B260-339A3FA6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9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42B-7367-4C2E-87A7-BE12F611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78272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14684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208-DCF9-4EAA-A530-1018305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14684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B45-B9D1-4861-BB34-D3DA0614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7827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14684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E4E-B0C4-44D6-B1BE-456E65C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1832" r="0" b="0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27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782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27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8920" y="6620040"/>
            <a:ext cx="107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03280" y="6620040"/>
            <a:ext cx="63374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6597360"/>
            <a:ext cx="1052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BC0-1EE9-461D-AC0C-A2EF7D9EF0F0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826920" cy="4797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174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899640" y="6624360"/>
            <a:ext cx="115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268000" y="6620040"/>
            <a:ext cx="5472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884720" y="6620040"/>
            <a:ext cx="1125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50A0-C25C-4543-BB58-6E890F9218F0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33400" y="260280"/>
            <a:ext cx="31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b9df"/>
                </a:solidFill>
                <a:latin typeface="Bradley Hand ITC"/>
              </a:rPr>
              <a:t>Faculty of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4040" y="260280"/>
            <a:ext cx="31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Bradley Hand ITC"/>
              </a:rPr>
              <a:t>Faculty of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23600" y="685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dbf"/>
                </a:solidFill>
                <a:latin typeface="Arial Narrow"/>
              </a:rPr>
              <a:t>Chulalongkor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b277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68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902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ABF4-95D4-4ED9-A583-1E09925E5F45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277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782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902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B926-DCBB-4A51-8A8E-ECD2DBC706E3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39:22Z</dcterms:created>
  <dc:creator>Nenuphar Supavej</dc:creator>
  <dc:description>Template created by Nenuphar Supavej. All rights reserved</dc:description>
  <dc:language>en-US</dc:language>
  <cp:lastModifiedBy> </cp:lastModifiedBy>
  <dcterms:modified xsi:type="dcterms:W3CDTF">2011-01-19T10:47:20Z</dcterms:modified>
  <cp:revision>289</cp:revision>
  <dc:subject/>
  <dc:title>คณะอักษรศาสตร์</dc:title>
</cp:coreProperties>
</file>