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DEA4-7999-475A-B0AF-5AA345EF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" y="397656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C953-6D09-479D-AB07-6B0900DB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60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3DA1-F118-4214-845F-25E0700F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320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368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320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368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BC08-E206-4AEE-985F-97A6DB18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A544-9E1B-4B9F-A5DE-BD424474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939A-87A5-446D-A2AF-3629178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B7BFE-4A10-459C-9015-79A6C87A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8536-3135-496E-9D13-316FBDF6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4EA4-738E-4504-9573-A3E5C25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56000" y="-360"/>
            <a:ext cx="65880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45DA-2D97-430E-803F-70F77F3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58B76-6D7E-40FB-8C2F-CC3C069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1A1B-AFCA-4E5C-A6A5-281F0E09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E89D-7042-44BA-AFC2-79BBE00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A4B2C-552B-4765-8563-EEBD900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720" y="397656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FA4FA-9188-4E53-8926-9DDAC20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60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59126-21C1-4220-B5A3-6C6BAA2E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0320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3680" y="126792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272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0320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3680" y="3976560"/>
            <a:ext cx="28857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91C27-473D-4C9A-8FA9-A174BF0B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5951-DF21-4317-AF5A-EACA5713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39D8-FB9A-44A6-9686-A680497F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9B49-70CC-4414-BE4E-9EA5F15F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56000" y="-360"/>
            <a:ext cx="65880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2D99-EBE3-4E27-8321-C9BF748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5526-0D7C-407F-BB8B-33D806E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0" y="397656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6635-9D25-4201-8578-6214339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0" y="1267920"/>
            <a:ext cx="4373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" y="3976560"/>
            <a:ext cx="89629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3240-B892-41DA-B8F0-87ACFD8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rcRect l="0" t="12714" r="0" b="14490"/>
          <a:stretch/>
        </p:blipFill>
        <p:spPr>
          <a:xfrm>
            <a:off x="0" y="0"/>
            <a:ext cx="2584440" cy="12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571760" y="6552720"/>
            <a:ext cx="657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65680" y="6551640"/>
            <a:ext cx="6699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F6BC-CF4C-4B11-B460-5C6259298B1F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552720"/>
            <a:ext cx="124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359080" y="0"/>
            <a:ext cx="216000" cy="125892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65360" y="0"/>
            <a:ext cx="216000" cy="12589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13276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2410920" y="6597360"/>
            <a:ext cx="4681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524720" y="6597360"/>
            <a:ext cx="1619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cf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CBB7-CADF-4BA8-B2B2-B55818EBEA57}" type="slidenum">
              <a:rPr b="0" lang="en-US" sz="1200" spc="-1" strike="noStrike">
                <a:solidFill>
                  <a:srgbClr val="fefcf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-36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cc0066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cc0066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13276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716000" y="1844640"/>
            <a:ext cx="4240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Microsoft Sans Serif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8474040" y="6524640"/>
            <a:ext cx="66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46D-FB0F-465A-8F9D-5B0D692F05A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658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72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Microsoft Sans Serif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286840" y="6524640"/>
            <a:ext cx="66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42E-4EDA-4185-9323-5DFC2AFF445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 </cp:lastModifiedBy>
  <dcterms:modified xsi:type="dcterms:W3CDTF">2011-01-18T04:12:28Z</dcterms:modified>
  <cp:revision>308</cp:revision>
  <dc:subject/>
  <dc:title>คณะอักษรศาสตร์</dc:title>
</cp:coreProperties>
</file>