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98C-4FDA-41E4-893A-C1A426C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451-9EAC-4543-BA8F-C371E57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1C2F8-FC22-4B75-9CB7-F503C592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F35D9-D147-4D25-8FF4-6151B4F3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61201-056E-42D1-A2B8-DE0C321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0316-2E18-47BC-8291-EB6E745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BC172-D2AF-4C5D-B1E2-DDD0782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2C76-6527-4E54-A019-13B7972A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FCD8-1468-4A28-A3D0-8F930047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9B63-1094-499E-BFE7-C8290128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44C29-66E1-40E3-8B57-D5445220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9A98-B824-4AAB-B631-2BFD3390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B0F-9B9C-42F0-8701-D2DD4986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9F103-08DE-4837-8E7C-96A5847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54A5D-5890-40F2-B9B4-DFF2F32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1D659-B770-48C9-8EA0-49DDEF1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D1EF-1633-49B7-AB46-F60EF42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8CB4B-AC73-4E27-B69E-CCD5903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2C5D3-4A30-4E61-8969-8DA4668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DE182-0DD0-44D3-8629-EEF2EA5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E75F7-4E69-48DB-B911-37CB742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CDFD3-6AE2-463D-AC51-3666D5F3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D731-70BB-4F20-A0BF-51759917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295-ACBD-42A5-B6DD-6E684177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48BEB-3821-40CB-954C-91AE8FD9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919DB-6B90-4263-BF62-08A9B61A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E445D-3F75-48F3-AC4C-E082F349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6F71-4825-459D-884F-463EEBD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90FC-73D3-4863-91D2-DD428B9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B14EC-4D53-478A-85CB-2350D18F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9A6A4-207F-46FD-BD00-13ED2EB4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55E31-77FB-4302-ACCF-70DC67B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B99E6-96A1-4B62-8C6A-A786D46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444C3-8E4C-49AC-94D5-D099DCC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EB8-EBBF-41FE-B531-B3DF8A50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7EEB4-691F-4347-88BE-7F172A3A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89F8-AFA7-49F9-B62E-8DF052E7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9E6EB-36EA-4690-9D1B-B7A94DB9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056A3-DEF3-4E06-809C-2B8CD41B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67414-68CA-4FE8-8EE0-6D3E375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3BA52-4829-46A4-A014-778435E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0863-66FE-43CF-A705-D9D19A8D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8B724-621D-4D50-BF9A-EBC8691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425F4-764C-44BE-B282-AB90DF72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7377B-F6E9-4E9E-A09D-1E848F8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815-C3C2-483A-AACC-E9451F9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29597-422C-42D7-A658-EA29CDF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70986-9C47-4A54-A82D-3F7A5BB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B619E-4524-42AA-B9F3-3C5394E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C3BB-5E03-4EC6-90C2-700B40A1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6EFB0-171B-427D-AC04-2FBD699B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AF01-ED17-49D5-B82B-920F0038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FB3-490F-44B2-9992-770DAEF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B5ED-8143-481C-ADC1-041C884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71E-6BC4-42DA-B297-B062FE7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FB1-2EFF-45B9-8EA6-8AF270B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FBB-5276-4FF5-A159-FBAD157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E7E-B3E1-4391-A133-B863EA4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2B4-3F5A-4A73-B860-9E6CB8C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3CC-C9A8-4A38-81DF-E28AE305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A4C7-E2C4-4FD3-933B-DAE9D63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B20C-54E1-4F37-93E9-B09C0004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B2D4-52E7-4305-A3CB-C3F94153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D295-65FE-454C-A3CF-FC0365E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A127-F578-4BC6-81E0-73E2817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816A-A0C5-42AD-B4F7-22C502E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9957-311D-4A30-A619-9A71DAE4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841-FF58-4949-9264-F2E68D2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A7CB-DABB-4C6C-A2B8-3E40EB27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393A-28A2-4706-A5B5-B7BC98A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8721-7900-47F7-908A-1E48D9D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630E-5B44-4F35-A91E-D4AEB7F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D6C8-D0DC-4A75-AA32-AB562B8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AB18-C086-43B8-A042-264F86F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28DB-AD4A-4FF5-8A0D-AD1068DE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CD3C-0253-4EC7-9212-EAD66017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DDEB-A78D-45CB-B608-C961ECD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8A05-DE7D-4CC1-B1E2-9212D75E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2F9-A58E-4497-8326-B412119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E934-CF0A-4597-AB19-067B2D5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AAE2-3814-4A56-BA84-FF0DF5F6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3DEA-BC63-4540-88BB-2A52359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827E-D414-4072-BD82-8363426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74D4-F2B3-4417-9DBA-05027CF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3716-EC37-4E74-9482-11A577F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A894-EF1A-486A-A2DA-786F9610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5A2A-5765-496C-BD6B-87DB210F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DB2A-7FFA-49CF-832B-FE12D3BB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39EC-4612-41EF-B4C5-A2477BA5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F1D-8545-4704-A0A9-2FAD21F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DAD67-3C11-4882-855D-1B39008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A5D1-6D51-46CF-A9E8-A490655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C807-C312-476F-9E2F-C03E8FA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20101-6F5B-4752-8819-351E71A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DC5D-6CCD-40C8-9F8A-73946F2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3966B-5ECD-4FFD-B0A3-D6B881C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93D2E-CE18-4BDB-BCB9-93B4829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56E7-E664-4FFC-93D3-CEC008A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736A-4DC8-40DA-BCFC-632ECDD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8A3D-A1DB-4038-85E2-FFF0D8C1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1F3-2B45-4C98-8601-4CD46DE6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D5B0-376D-4173-9E92-16B6123C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E8FD-565E-4D8D-9991-5E90FF7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63ED-B821-4196-AADD-00EB45E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976E-C3F9-4A0F-BC89-4CFCA32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3CEE-9D75-4C28-A009-5350C28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7C69-EACD-4FDC-A99E-764EADA1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32A0-525C-4143-82D2-46CD2C2F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3AC6-5587-409E-B28C-90DAC59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A6135-5297-4F64-AE1F-BA4794B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D9A99-D982-421E-ADBD-52E7C96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29B-BF11-4CE1-82B3-490EC16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99BF-400F-40F1-8410-DA7941A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C5CF3-FFC7-48DA-80E5-4F9F008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C788-2916-4878-835A-7AB70AFE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EDE8-6519-43D8-ADE9-05A211C4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C4B0-2028-41DB-8904-4F7D111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CCE2-048B-4115-A9EE-BDF8E87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2431-9F4D-452D-8A92-CCF10133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20A9-022E-4609-B270-F896FEFA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3F54-3046-431C-9DB1-B82824A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F782-800E-4295-B4D1-D7542B3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30D-B15A-46E2-87D0-7A74DA1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E8E6-A126-4D78-94C1-1F14602A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51ED3-75B6-4540-9E04-869882A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DA34-F4AD-40AE-8286-6E6598C7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35E8-D69C-428F-A416-EF233110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A7B10-FCCC-4235-912C-B1C3BA9B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CC876-9C1D-4E54-8023-3BC88C56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1ACC9-AA84-408C-BDC0-0E4A16C4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2405-FEBF-4F0E-891F-03CFD40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6702-3AEE-46B2-9D9A-4BA46E1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EC02F-7DE3-440A-BBBA-5552DDA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549-77DD-455B-80C1-7579165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4795-A787-4E24-BE72-E26C0BE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74E19-16BC-46F4-A1B7-3E80B7C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6C7D-3483-4CC3-AFC8-7F585DA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3033-7CFE-4320-94E1-C7D5E5A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309F9-769E-409D-BC84-FEA95763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85FD-23DD-4D03-8C35-B1E4DD6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B227D-47E3-45C7-836D-1803C84D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63E86-8FC4-4ABC-B642-DA965726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2A9DC-AD7B-4A96-96D8-A53F4CF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9486-F3B8-4CAB-A32C-D787DB8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F10-4BF3-4540-8224-21C5D01F515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" name="Picture 1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3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3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5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48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50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5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8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9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0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8F5D-6F43-48AF-BA8C-CDAFF671EC1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98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00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5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09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11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6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1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2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3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A673-703F-4EBE-9B21-2CA8A20290A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5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6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6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7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70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72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4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5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6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FE6-4973-40B6-A47A-79C2CCE061E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artslogo.png"/>
          <p:cNvPicPr/>
          <p:nvPr/>
        </p:nvPicPr>
        <p:blipFill>
          <a:blip r:embed="rId3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1"/>
          <p:cNvSpPr/>
          <p:nvPr/>
        </p:nvSpPr>
        <p:spPr>
          <a:xfrm>
            <a:off x="0" y="142920"/>
            <a:ext cx="500040" cy="357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73920" y="142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71280" y="6524280"/>
            <a:ext cx="128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571760" y="6524280"/>
            <a:ext cx="621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929360" y="652428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100-F2C4-4FEF-B391-E48FD25E5546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0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1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0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20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22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C69C-73AF-4656-AA6B-B70148ED2E2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70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3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81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83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8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573-E344-47F1-AA94-40B639EF2A2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3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3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9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43" name="Straight Connector 21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45" name="Rectangle 23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Picture 27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666-84CA-41D1-AEC4-2CDDF9E9F1F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9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9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1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04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06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1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BD71-32DB-4DE5-A773-22B848BCA796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54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56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1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2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65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67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D21-9A9F-4494-9FD1-BDF5CE67E07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1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1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2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23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26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28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3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AB99-AF56-40AA-8B0F-24EB505A59B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6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7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7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3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4" name="TextBox 17"/>
          <p:cNvSpPr/>
          <p:nvPr/>
        </p:nvSpPr>
        <p:spPr>
          <a:xfrm rot="16200000">
            <a:off x="-2655720" y="3190680"/>
            <a:ext cx="56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19"/>
          <p:cNvSpPr/>
          <p:nvPr/>
        </p:nvSpPr>
        <p:spPr>
          <a:xfrm>
            <a:off x="0" y="653904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87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89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Straight Connector 23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Straight Connector 24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Straight Connector 25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Straight Connector 26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5"/>
          </p:nvPr>
        </p:nvSpPr>
        <p:spPr>
          <a:xfrm>
            <a:off x="107640" y="65527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6"/>
          </p:nvPr>
        </p:nvSpPr>
        <p:spPr>
          <a:xfrm>
            <a:off x="1428840" y="6552720"/>
            <a:ext cx="657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7"/>
          </p:nvPr>
        </p:nvSpPr>
        <p:spPr>
          <a:xfrm>
            <a:off x="8143920" y="6552720"/>
            <a:ext cx="89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37C8-294A-47C5-8E64-4C852D1ED79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4955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2928600" y="378576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Microsoft Sans Serif"/>
              <a:ea typeface="LilyUPC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7929720" y="652464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7FC2-5E9B-4C93-8DB8-782EA5DDC8FC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358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499680" y="1600200"/>
            <a:ext cx="8358120" cy="4525920"/>
          </a:xfrm>
          <a:prstGeom prst="rect">
            <a:avLst/>
          </a:prstGeom>
          <a:ln w="0">
            <a:noFill/>
          </a:ln>
        </p:spPr>
      </p:pic>
      <p:sp>
        <p:nvSpPr>
          <p:cNvPr id="724" name="Slide Number Placeholder 34"/>
          <p:cNvSpPr/>
          <p:nvPr/>
        </p:nvSpPr>
        <p:spPr>
          <a:xfrm>
            <a:off x="8143920" y="6553080"/>
            <a:ext cx="89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723A-2E78-4F73-A76E-5EF9A1619E9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 All rights reserved</dc:description>
  <dc:language>en-US</dc:language>
  <cp:lastModifiedBy>Nenuphar S.</cp:lastModifiedBy>
  <dcterms:modified xsi:type="dcterms:W3CDTF">2009-05-29T05:59:46Z</dcterms:modified>
  <cp:revision>323</cp:revision>
  <dc:subject/>
  <dc:title>คณะอักษรศาสตร์</dc:title>
</cp:coreProperties>
</file>