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71C-8DC5-4D73-8F6F-B85BD682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599-058A-491E-B8D6-6F9795F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CF9D2-09C2-4382-9028-C54B932C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F36C7-9B2E-41C5-863F-F9C79294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27B5B-991E-40F5-BE69-FC1FE3BC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29410-49BE-4ED1-AD30-A5FCD3FD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05482-4AF6-4660-8491-9541C7D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722CF-E9E5-40C8-977D-15850F4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4E635-DEE7-436F-BB09-C2AD3BB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9E615-BE08-4A51-BE87-90F58C4B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9A86-E888-40CC-BDCA-D960212C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4BDB5-143B-4EDD-85E9-3F499764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B95-6DB5-4C2E-A6C3-145A539A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715BB-F444-40C7-AA46-9F045EB9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5EB71-2BC2-4716-B51F-033C740F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83EB4-71B7-47D8-8766-5825931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AC1C6-B0E3-4E7E-98E6-C187A273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1533B-716F-4DD8-83DE-FE3669F1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F9F02-C95D-4893-8AC4-B2F3E87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91DE9-76A7-4C94-BC49-C7EE941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9CFB0-7D65-41BF-8285-5A0530A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966B7-CE86-457E-BD86-A043B6EA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087A2-5B2C-45AE-B8A1-9CCDAB1D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BCD-D645-4E70-A253-B17B63E2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D29C2-9F35-453E-BB7B-68FE4084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5F165-BD12-4C1A-B77D-944AC8F1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DF291-43A4-4A88-B810-158C35E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3DB95-2A12-4AFB-B0EF-8E7DECFD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1C140-ECF7-406E-B163-B755A7DB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68143-6AD3-4B7F-9C93-191FC154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26A7A-F282-4F0C-9BBC-9DC487F0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77130-5893-4719-98DE-BD841EE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22494-AE12-46B8-8AE8-67EC6D7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FBC7A-3F28-4250-ACC1-C36D87C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307-DFDF-4914-8BA3-A8105398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AC996-72CB-4A56-A039-73357702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A5C09-B60D-4B96-9909-570F76F7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D985D-85CE-4320-9244-97EA5895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257FC-CAB2-447F-813E-FBB144BE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5D166-86B6-4360-921A-35771C4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A9971-92C7-47D0-A1D4-5C7F2E75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69364-26BC-4431-BC38-51BF5D3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289B2-4FF2-431F-80C9-36AF5B4F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BF872-1AE2-4C75-9260-6137B08A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95AAB-112B-416D-A3AE-7EC7A63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ED5D-D33D-43BA-8CB9-EA55375E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ED4E8-9ED9-4507-81B1-3A1BB6E1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23E3B-423E-4499-A7DA-66AE96B5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42689-717F-4A9D-BFCD-BA0B5E8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F4D34-BF22-40A7-B115-FE89880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625C0-B2CF-45D6-8EF4-3DA17DA8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D24B6-0686-4CF2-8DF6-F6D9AC08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EB616-CC17-4B90-BABD-071B74F8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0EF68-952B-455D-B199-59BD50F0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5AF76-1BFE-4ABF-8333-D32931AB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C2CBA-C83B-4839-B753-1FDD2E67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35E3-E8D1-4CC7-AF98-6029AC8E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A1C5D-2BA4-4409-8919-6529960F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6D587-F6E4-4031-915E-0C0E826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2F692-9F13-4315-9D50-C2631E5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FB9AD-6A74-44FD-BB5B-9501059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C204F-2604-4DD3-B7D5-DFE1024D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36821-4CC0-4011-872F-8B17533E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07398-D14A-4DA2-B5E7-A83A6AE1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13C53-609B-40A6-9A8E-44EE0ADB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33DEF-77AF-46F6-97BB-C862BEFC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F33D2-3E19-44BB-8054-CAD7E280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81DB-F711-461D-AE0B-99B4D20C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2F796-7A5C-4FC4-BBC6-D7163F5B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84535-8B43-45BA-AAC5-B925D34D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27F2F-C89F-48E0-B562-B49F4485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432B3-D295-4815-A94A-0DA8E2EB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29C5A-242D-4D23-B263-500EAEA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0E91A-ADF5-4D3F-8817-BEF88C5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949C7-0DA5-4EE0-AD57-75DD6B8D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A4DDE-5FC4-44F9-9DD5-8D638505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0D894-9651-4A0E-A4A9-9883F6B5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2BB2C-5B18-4C9F-9013-D0471C14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8879-46FC-4BF6-89E3-0D46C3A2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5C20F-B0A3-412B-8FE1-9EE374CA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E8607-3FDF-4457-AF3F-4A345D40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E8B59-CBCD-4BC6-B464-37E7A795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6BE70-E09F-4150-BED7-8BD7C154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B641B-4590-4EF8-853C-810CCFD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C1E46-299F-4D9A-89B3-09B6015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51BCC-9C84-4BDF-A79A-9BF92C2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9F08B-C798-41CC-9C5F-04B6FA1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37508-D4BB-4FB7-9A6A-B71B8035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5BFBA-B59F-47A9-8AE8-54E8110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91B-0D43-41FE-97FC-70BB007E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EE846-D5E4-477E-A392-BEC67D4F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49991-90B2-494E-9E6C-A0608792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F2505-175C-456B-A765-75C7E00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B8789-26E0-4FDA-A858-966DB8E6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656B8-F2C6-4806-A757-7DB8D23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BAA23-0455-4C3A-B7CF-C6D11BA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CD405-287E-41E2-AFC0-7030943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6655C-DB6D-4BEB-AD1B-F6A101E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30F70-D385-4CDB-B9F9-7BF79B9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FE133-504D-47B8-AFD2-C15559FD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933B-2451-4727-86EC-8ECEAF0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95B20-0E81-437B-8E7E-737872CC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D4A49-8FD4-42E4-A499-743625B8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E8EDE-C5B8-41B8-A8A7-67EB9EC1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F015A-1C90-4499-ACD8-50DA6DB3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AF8DB-687B-4EBA-BBCE-94BA013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534DCF-5CA2-4747-9060-99BBE99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AD43F-0361-47E7-AA81-7B5867F6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6D7AB-1DF3-4D90-B33B-A42EBD69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8C376-690E-4960-92A1-325324C2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A8BB5-3028-4BF3-BEC9-EA04A94D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FEB-F223-4A40-8BDA-C4703E2F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ABBB-602B-4F89-A174-3F4C9411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855A7-78BE-4B5C-8E15-DD28F83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E1B8E-4ABC-4A44-B121-B0F105F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63424-B127-4839-9F2C-B030134F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F4F86-476D-43F4-B90A-087A94D7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FF4DA-30B7-4444-9EFA-BEA5C4BC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3E0-04FC-4091-82F6-C4E55B8C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9510-8B23-4C66-A6E7-C0E8D1CE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4122-74BB-4E0D-BF21-E251BBB2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B59-8C82-4921-A436-A68D58EC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D4FA-292F-4A38-9D0F-63E450BC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1A71-87E5-4868-A6A5-C1E0F03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0EAF-2927-46B6-8CF6-934AB9B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FEB1-862A-454A-A62A-4AE516D3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4C32-E6EB-4C47-9A1A-BE6B6C63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B4C-0360-4B53-933E-08A34703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D5AD-53F7-4D3D-8E0F-EB8A1DA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5A8D-B713-47C6-A03C-244FEFD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3B01-64D2-4B6D-8033-3700FD9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D6EC-B1C9-4493-9229-BE63C155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0B85-1AF0-4CAE-B52E-6471713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A8E6-D7CD-4411-82E2-6FF6A496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06E0-7EC9-4B59-B437-D9A23A2F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CB84-9128-4378-B1BA-DB024D5A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2C05-CF41-48EB-8D4E-B8DE0A57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7C2E-BE1C-41B3-871F-B9E7D5F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D88-AE3B-4AE2-9D0A-9774CE3D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90226-B6AB-4697-9D66-B44071F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FFB2-C4E5-4238-B18A-61AE5D2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7FB1-93FA-4E04-88D3-DBA20B5E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38CA-ED5F-468E-8D8A-17C03EF9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4A38-DE73-4337-B0B1-C85B6F55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AEA8-4A2B-4340-97EA-BBB178B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DEC5-4D0E-4BDA-9E49-B4E3DCFA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55B8-847E-4100-94C8-A54FD090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FB4F-26C9-4ABF-B1D8-0FD5A1C8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9FA6-D044-4A5B-AC7D-F0A4DF49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CA1-1624-45F6-BA6F-1C24BDB3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E240-FE43-4673-8294-AE7348CC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013D-17AD-4A6E-8EE7-1C96CBCE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DFB9B-07B7-4E67-8F51-12B781DA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C29B-47A7-4119-8BDE-08F47C6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84A69-DFAC-4E74-990A-79D68BC6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D066-FA51-4302-A1DE-BBA617B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B280-F0FD-4313-AA44-C20FCA4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EBDDD-4A3E-4360-B241-50D4208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7B595-74DD-49E2-AEB8-9B13872A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66441-8199-4043-93DE-6BB5C115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565-BD99-4186-B136-75703DD5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57EA-5F40-4A23-BE46-2A2A703B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46643-0FF9-4006-ACF1-3D6BF3A0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2CB3-55AE-4042-BC32-90D2FF6B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C7354-F9FA-43FE-8CFC-FB477870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DAFDD-9852-489D-B9BC-64F35E79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B2EB-93DF-4FB7-B4AB-21635ADC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BADE6-858F-4D95-883A-AE0940A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FCE43-D030-442D-ACD7-FD8EC34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6D5A-C103-4C92-97D1-319D401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5D0A2-6C24-4F16-816D-B81398B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657-918A-4884-A70A-2D5874A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F137-195C-4E4C-8784-FC75435E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0573-3C9B-4625-8983-EA8BB2D2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33E0B-84E0-4941-9B6D-D764D3CB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6081-09C9-4020-A648-A3253556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AB66D-FF14-4860-B076-DAE955C8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4299C-283D-4AA6-8C3A-ADFF137C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A6796-8E07-4C48-BA00-9F75B96F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49E00-30E8-4B16-BDBF-413EDBE6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4787-3A1A-4016-9850-7BA8F3E4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A4C96-8FC4-49E6-9D83-4B1D3BB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AF4-C928-4373-B06F-F1E8115B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CAB70-34CC-4182-89DF-B4E1186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9097-DAC3-4936-8F62-4985C5B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498A-0346-4639-9C06-D0A1BDA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4D3C-5F4D-4509-A432-755F79F9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7D7CC-C0A6-4281-996D-3F297D68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C60E-9215-4A7C-9395-276B9C5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9E9AE-A46D-4B5E-A098-24210F26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7C72D-FF47-4C2A-B2C1-B80C2D30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C2A3-7CF1-427F-903A-B896DA7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1FA3-9C83-4309-A484-2499629C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5EC-94B2-415A-B9E4-37769DE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499680"/>
            <a:ext cx="82296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D778C-DE96-4AEF-B750-4A9236B3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ABA24-4A87-4FDC-BB7F-F1A809E8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6078E-162A-4BD9-B5F6-3CFD43C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90F7E-23AF-4B6F-A6FA-AA2C617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4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C9774-3AA6-4668-A399-065D7394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47680" y="160020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47680" y="3964320"/>
            <a:ext cx="411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32041-6263-43BE-9E9D-CE15F1AA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852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8640" y="160020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852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28640" y="3964320"/>
            <a:ext cx="2714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44AB-56C1-44A5-A7B6-C8E5FB74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C613D-9053-4518-A4F1-C5866E36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D9015-B496-4AEA-A28C-2EF7D3A9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3740-B6C3-4A72-9975-C960C416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0040" y="6552720"/>
            <a:ext cx="121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3AB0-D15E-4EFF-95E4-C677E04C169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" name="Picture 1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4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4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3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4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8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9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0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0C3F-4B2E-472D-A6A6-01BB5CD3025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99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01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7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8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12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14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0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D454-B07A-4F39-ABD4-57AFF631A514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66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66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1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2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34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35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6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5466-7BFB-4D76-B190-612D5A44223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717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719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5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6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37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38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39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7A17-38E0-4FF3-B009-062744298F6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771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9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0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784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786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2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0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41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42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D965-149B-4E7E-A619-78810C3077A3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83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83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3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4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848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850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6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43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44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45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1759-BB3B-4071-A759-070ABCD41FF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899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901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7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8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912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914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0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6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7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8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5E4D-4E5F-4DD3-A046-16048FEBB52B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96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96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1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72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976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978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4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49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50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51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3426-9358-4C37-BB0C-B50A66C448B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55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4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rtslogo.png"/>
          <p:cNvPicPr/>
          <p:nvPr/>
        </p:nvPicPr>
        <p:blipFill>
          <a:blip r:embed="rId3"/>
          <a:stretch/>
        </p:blipFill>
        <p:spPr>
          <a:xfrm>
            <a:off x="6962760" y="0"/>
            <a:ext cx="2181240" cy="666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1"/>
          <p:cNvSpPr/>
          <p:nvPr/>
        </p:nvSpPr>
        <p:spPr>
          <a:xfrm>
            <a:off x="0" y="142920"/>
            <a:ext cx="500040" cy="357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673920" y="142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2771"/>
                </a:solidFill>
                <a:latin typeface="Lucida Sans Unicode"/>
                <a:ea typeface="Lucida Sans Unicode"/>
              </a:rPr>
              <a:t>Chulalongko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430-64B1-497C-AFE9-128DB6D01A4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16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0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29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31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1EC-0513-4F13-AE9A-17036D35F35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180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182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8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9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91E-BDC5-4D3B-B77A-9E63DC7B9E28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34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36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3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3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47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249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CCBE-8B60-4704-A1D8-F475BC2D05E7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298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7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1"/>
          <p:cNvSpPr/>
          <p:nvPr/>
        </p:nvSpPr>
        <p:spPr>
          <a:xfrm>
            <a:off x="8072280" y="1285920"/>
            <a:ext cx="190800" cy="3960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49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12" name="Straight Connector 21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14" name="Rectangle 23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Box 24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25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26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27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Straight Connector 28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0" name="Picture 27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6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7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8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3A2E-5122-429F-88C9-A8D34EDFB46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63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65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1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2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376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378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9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1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253-9E2B-4D96-A649-ADCC779E4CF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27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29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5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6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40" name="Straight Connector 20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42" name="Rectangle 22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Box 23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Straight Connector 24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Straight Connector 25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Straight Connector 26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Straight Connector 27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8" name="Picture 26" descr="artslogo.png"/>
              <p:cNvPicPr/>
              <p:nvPr/>
            </p:nvPicPr>
            <p:blipFill>
              <a:blip r:embed="rId3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2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3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4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B6C3-C4C0-4921-A661-18FE8D808218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7"/>
          <p:cNvGrpSpPr/>
          <p:nvPr/>
        </p:nvGrpSpPr>
        <p:grpSpPr>
          <a:xfrm>
            <a:off x="0" y="0"/>
            <a:ext cx="9144000" cy="666720"/>
            <a:chOff x="0" y="0"/>
            <a:chExt cx="9144000" cy="666720"/>
          </a:xfrm>
        </p:grpSpPr>
        <p:sp>
          <p:nvSpPr>
            <p:cNvPr id="491" name="Straight Connector 8"/>
            <p:cNvSpPr/>
            <p:nvPr/>
          </p:nvSpPr>
          <p:spPr>
            <a:xfrm>
              <a:off x="7143840" y="500040"/>
              <a:ext cx="1571400" cy="144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0" y="0"/>
              <a:ext cx="9144000" cy="666720"/>
              <a:chOff x="0" y="0"/>
              <a:chExt cx="9144000" cy="666720"/>
            </a:xfrm>
          </p:grpSpPr>
          <p:sp>
            <p:nvSpPr>
              <p:cNvPr id="493" name="Rectangle 10"/>
              <p:cNvSpPr/>
              <p:nvPr/>
            </p:nvSpPr>
            <p:spPr>
              <a:xfrm>
                <a:off x="0" y="142920"/>
                <a:ext cx="500040" cy="3571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11"/>
              <p:cNvSpPr/>
              <p:nvPr/>
            </p:nvSpPr>
            <p:spPr>
              <a:xfrm>
                <a:off x="673560" y="142920"/>
                <a:ext cx="31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b2771"/>
                    </a:solidFill>
                    <a:latin typeface="Lucida Sans Unicode"/>
                    <a:ea typeface="Lucida Sans Unicode"/>
                  </a:rPr>
                  <a:t>Chulalongkorn Univers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Straight Connector 12"/>
              <p:cNvSpPr/>
              <p:nvPr/>
            </p:nvSpPr>
            <p:spPr>
              <a:xfrm>
                <a:off x="642960" y="500040"/>
                <a:ext cx="1928880" cy="14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Straight Connector 13"/>
              <p:cNvSpPr/>
              <p:nvPr/>
            </p:nvSpPr>
            <p:spPr>
              <a:xfrm>
                <a:off x="2571840" y="500040"/>
                <a:ext cx="1285920" cy="1440"/>
              </a:xfrm>
              <a:prstGeom prst="line">
                <a:avLst/>
              </a:prstGeom>
              <a:ln w="7632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Straight Connector 14"/>
              <p:cNvSpPr/>
              <p:nvPr/>
            </p:nvSpPr>
            <p:spPr>
              <a:xfrm>
                <a:off x="3786120" y="500040"/>
                <a:ext cx="1785960" cy="1440"/>
              </a:xfrm>
              <a:prstGeom prst="line">
                <a:avLst/>
              </a:prstGeom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Straight Connector 15"/>
              <p:cNvSpPr/>
              <p:nvPr/>
            </p:nvSpPr>
            <p:spPr>
              <a:xfrm>
                <a:off x="5572080" y="500040"/>
                <a:ext cx="1643040" cy="1440"/>
              </a:xfrm>
              <a:prstGeom prst="line">
                <a:avLst/>
              </a:prstGeom>
              <a:ln w="7632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9" name="Picture 16" descr="artslogo.png"/>
              <p:cNvPicPr/>
              <p:nvPr/>
            </p:nvPicPr>
            <p:blipFill>
              <a:blip r:embed="rId2"/>
              <a:stretch/>
            </p:blipFill>
            <p:spPr>
              <a:xfrm>
                <a:off x="6962760" y="0"/>
                <a:ext cx="218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00" name="Rectangle 16"/>
          <p:cNvSpPr/>
          <p:nvPr/>
        </p:nvSpPr>
        <p:spPr>
          <a:xfrm>
            <a:off x="0" y="714240"/>
            <a:ext cx="500040" cy="2928960"/>
          </a:xfrm>
          <a:prstGeom prst="rect">
            <a:avLst/>
          </a:prstGeom>
          <a:solidFill>
            <a:srgbClr val="d94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3643200"/>
            <a:ext cx="500040" cy="2000520"/>
          </a:xfrm>
          <a:prstGeom prst="rect">
            <a:avLst/>
          </a:prstGeom>
          <a:solidFill>
            <a:srgbClr val="d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0" y="5643720"/>
            <a:ext cx="500040" cy="1214280"/>
          </a:xfrm>
          <a:prstGeom prst="rect">
            <a:avLst/>
          </a:prstGeom>
          <a:solidFill>
            <a:srgbClr val="e57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971640" indent="-514440">
              <a:spcBef>
                <a:spcPts val="799"/>
              </a:spcBef>
              <a:buClr>
                <a:srgbClr val="ff6da8"/>
              </a:buClr>
              <a:buSzPct val="70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509400" y="6552720"/>
            <a:ext cx="120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28880" y="6552720"/>
            <a:ext cx="628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8357760" y="6552720"/>
            <a:ext cx="67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4CBC-146C-413F-A9BA-09C497980496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123920"/>
            <a:ext cx="7772400" cy="249552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2928600" y="3785760"/>
            <a:ext cx="5543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Microsoft Sans Serif"/>
              <a:ea typeface="LilyUPC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6902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7ED-2B15-4BE1-9B17-FAC8B3EAE7B9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358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99680" y="1600200"/>
            <a:ext cx="8358120" cy="4525920"/>
          </a:xfrm>
          <a:prstGeom prst="rect">
            <a:avLst/>
          </a:prstGeom>
          <a:ln w="0">
            <a:noFill/>
          </a:ln>
        </p:spPr>
      </p:pic>
      <p:sp>
        <p:nvSpPr>
          <p:cNvPr id="1031" name="Slide Number Placeholder 34"/>
          <p:cNvSpPr/>
          <p:nvPr/>
        </p:nvSpPr>
        <p:spPr>
          <a:xfrm>
            <a:off x="6902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B84-2FB2-4106-B291-131C3C9FC913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 All rights reserved</dc:description>
  <dc:language>en-US</dc:language>
  <cp:lastModifiedBy>Nenuphar S.</cp:lastModifiedBy>
  <dcterms:modified xsi:type="dcterms:W3CDTF">2009-05-29T06:00:05Z</dcterms:modified>
  <cp:revision>323</cp:revision>
  <dc:subject/>
  <dc:title>คณะอักษรศาสตร์</dc:title>
</cp:coreProperties>
</file>