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973-7663-48EF-B335-0E281A0C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8E0-E1EF-49C0-BBF7-6C40B9F9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1C137-2517-4BE2-B7F9-2DB309C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4816B-6121-4310-A114-282F23BC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AB3AF-3205-4A97-8D5A-0A35AB8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E083C-671D-4287-894E-FADB2D5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19139-2FA8-4247-B2F6-D698C58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0219C-0731-49A8-A314-0C9FB3F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EB641-2590-4147-AADE-59EF41B7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25109-1DDA-44B5-9173-CE496A34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57CA9-3E38-40C1-87F1-6731157A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49FB6-E1EC-4BD3-86F1-7480663A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DDA-2AE9-4A6D-84C8-15A0A1BC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62A0E-A0C5-4C77-8656-7A3CE7FE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B84F8-6245-418F-A0AD-E6190974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2BF4D-081A-4A9B-875F-9F157281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1E484-B7E7-4692-9E33-D9417857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8477-6075-4A76-AC48-80EB0ECD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A3AAD-5482-4D6C-91F4-B4DB3E0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1194C-5778-4937-9919-658BCB4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8743F-BF4E-420A-A803-840E2C6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DD58-4B48-441B-9A91-4D9E47B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F031C-BC57-4530-90CD-58A51B9B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82A-BA07-4F13-8DB5-0032BF69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53B5-2210-4577-8A81-3273A880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BBB79-73CD-47FA-9E72-E84EDE8C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5C44-DE4B-4849-898A-8181743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6A0A3-047C-455D-97CC-34C8979D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6E615-DDB8-4019-AD8B-D44B7DF1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B9B63-5AD7-4CC2-B923-344451A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00EB-5F83-4EC8-927C-A77C780E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1EED7-B275-4F12-A096-3CEE67C7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3B490-2D7B-4CB5-8640-58B24F0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A0E50-13E1-434E-B70A-1B80EFB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F65-6081-43DA-A53A-562CA20B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6C62-D30B-44C6-893F-65C3032F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5650D-FB31-4AAA-A0FC-E0E6381E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14293-C777-48A6-9891-059614C8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B9FE9-0634-423D-8706-B878450C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AF63-AB3F-4879-9BF1-04AD344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765BD-411D-42DB-A709-30080E8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6CED7-95EF-4EBD-AA90-791CEA85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2CBEC-80D6-42DC-8432-470A12B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DA581-24A6-4D80-98EA-1D6F676C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6A3F-C82D-4A86-8E7E-CBE02AF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C78B-074A-421C-8CE9-BD3E9C00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388A2-8ADE-4F8F-85AB-CFB323D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A03A7-2889-4AC7-83A4-C87A1A6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349E8-4B0B-4C7C-8049-B7093843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9FB64-4009-4655-8B40-284A8358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BD0E3-A76E-47E2-AA8B-0B68F3D5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05309-7916-43F8-9E9A-62A77C5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41D0C-6897-447A-B0A9-4969D009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BABEF-F3A3-455C-A690-1D56AAB7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BF01D-1A57-4FB5-92FF-B2EFCACA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437D2-A8D5-4CFA-92F0-1177B013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00F4-97D3-456C-8C32-1B6E3D3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D5736-1964-4FDB-BC20-37A7F103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B82EC-CFB0-4866-A5D8-766ECFF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2F876-7683-4862-86CC-1C3DDD93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CBDA1-00E4-4DFD-93A9-4654C01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CA84F-87D6-4FA1-9A67-9631C558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1832B-000A-46A7-9BED-376156CF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02E1A-F4DA-48E0-AD67-654150E3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29529-185E-4638-A8AD-A9B46587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E80C1-DE8C-41F4-ADBE-80AF297D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9A0EA-035F-4F82-B662-47341F62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283A-A348-4C0F-BFDD-F2F13AA8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B6660-0262-4795-A32B-05DCA8F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3AB32-E263-45C1-91AA-6600F226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984BD-6CF6-4956-BBB4-8EA51A5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F0C32-50FC-4233-AB70-3C7853A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8709B-012A-4841-AB88-298B4D7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B543F-906B-4171-84F4-A6EBDF5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B3F61-BE32-4BEF-8D7C-C8577F8B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EC639-DFC2-4198-9D93-B7CC3516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C8073-F4D9-4A60-96F4-7102C943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B995A-1088-489A-924A-EB4548A8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5DAA-EFCE-4AED-86E4-AFB71572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14C71-6185-47A5-8CE8-01B601F0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5B5ED-DDFE-4CBA-9AB9-8F055DDE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68098-BEE8-40DE-9963-D50BA735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AF17C-8386-4E9A-A6C4-984DFA0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49BA1-116F-4A07-812B-C0309346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5C39F-B7AF-4EA4-A137-682F0A1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601B5-4258-4578-A33B-EE06CA6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9A58E-F7C9-4768-84B0-F4F1A60D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4EB0E-2C77-453C-8436-E36AFA1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C51C4-4AE8-4211-A7CD-8822C9C9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DEF1-FA89-4300-8ED1-268F4C65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41CD2-CA79-4742-A947-E8288F1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7C748-2309-473B-A85E-7909C997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EB54E-F89C-47AE-B176-B6F50D9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5B623-CC1A-44D3-B04F-3B50FD3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17DAB-C944-437F-A675-F31C474E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459AF-55B6-4DFE-93D2-4C2AF91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5B53D-3210-41ED-806C-C255B2D3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6C56C-5CCA-4281-8540-9625FBD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9DC0C-4478-400A-9873-A2DDFE3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F0F92-22C9-4DC0-952C-4A391E1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8D4A-D511-46F5-8ADE-DBF40DA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D8A1D-3FD2-4A4A-A204-EFD3DA63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0331B-9389-4141-BB76-2CF8A811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A977E-8048-49B5-8A1D-38AC7BD2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383F9-4EBB-44F9-8C5D-C90E6EC8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FADC1-B745-46B3-B611-3740CAF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5E412-23AD-4C30-9183-37B4CF45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19E9D-48B1-4F7C-A7B2-15B602D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BE788-560B-4CA8-ABBC-9D46C3E2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14CCF-EBE4-46C7-8DBC-03705D6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A8E12-308D-449A-BC0C-FB4C16CC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A33-7E84-4AFD-BE4D-A7C77F1C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F0A1-EABB-46F5-9150-640135D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7420A-7F3B-4C2D-AD44-8763C2D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6D587-84CC-4AA4-830C-31A221B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C3142-472D-4BBF-B471-8245C988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29758-26DD-42F9-A179-BC1563B5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687D6-5028-485A-9FFF-A3B0F9D9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1769-DA3C-4A59-9761-44DFB61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655-3648-4989-923F-63A870E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175D-0911-4D7B-9A90-48EBC118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0F5C-3210-4871-B978-81B5E385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67D5-AF07-48FF-A1AF-D254B9A2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8273-43B0-40BC-8CB1-7A1588B4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72E8-8D80-4B99-B4BA-6EF63B10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A6254-A60F-45E9-96D7-7C520DD5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FBA8-5001-4271-977F-9F19806B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A5D-640D-4B35-82A2-64D4892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2DEC-BE2E-4F2A-9731-C669D677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D47C-677E-4037-9168-56F5C7A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35CE-45B0-4479-B587-AF6CA3EB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1EFB-827B-4F48-9354-2712593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6687-4CCA-4AC6-8541-0BC0B8F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4198-D665-4737-90F8-1DC47C72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E91E-D5C0-46AC-B9B1-6EAAE1CC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AFEC-60AE-4E3A-B30A-1FFF3FAE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4041-039E-4190-A2B0-4822002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0886-3CC5-4152-977D-9212E0C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745-BC45-410D-AB49-6BEEE30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7771-8883-4739-823B-53BF17C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7BB4-88AA-40CB-B0E1-FDFD571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8930-5A3C-4275-A233-48C08035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8EC0-171C-4293-8784-00ED411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7B73-EF00-4C31-B6D5-1B6C15FF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C726-34DF-42E1-9464-1D5B1AE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C4F3-2C8E-44F1-86E8-F8FEC771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4A37-9B51-40FA-B7D9-0693C35D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3729-97B4-448A-A044-0869D6A3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C368-B5C7-45D0-8555-80B5F837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4B1-7C8F-4040-B0B9-36B79801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5095-4DAD-490A-9581-60AFDCB5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1345-97CE-45D6-AC00-4F550F2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DC8E-E9FC-4E50-9B5D-4C4581D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8A43-6307-45E7-934E-AD69759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E0DC-07AB-47FD-A9F8-8E1055E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2FB0-7EF3-4284-8212-C7515678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6496-31B2-4091-BC2A-ABE4E04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9CE9-042C-4963-A736-FDDA392C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EEFB-5F24-4125-B113-B6F6937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A6E0-FC78-40FC-BD2F-3CD3B8FD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236-E48B-48B2-BEB3-1A2210D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7B3C-1130-4D94-9B31-4CD55E70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EA23-8501-4C51-9995-C2FF2693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3723-DCA6-4BC2-AB12-052F026D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A9265-073E-480D-AAAD-90E0A52A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4C29D-967F-47F2-82A1-A178B4EE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EB5E0-504B-422E-AF9B-712E7AB9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A5078-4762-4F9C-873E-FA88BF22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0FD5-1995-4934-8EC2-F0FD10C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B8F9C-7E6E-4686-8405-F77C7CA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BDB82-8740-4CB5-9082-8B2D60A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D33-09FB-48D5-981C-A3B635F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BBC83-AF4E-4099-9767-A76E973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9A17-AF1F-42BC-8C23-E6F90FAA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3220-0CA3-437C-9680-C32905EA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622CE-52BA-4A24-BE06-855465E4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C11C-9310-4C75-B13C-B8B7417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EFA32-8208-420D-A4E9-D3E933A1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44DF-8984-4554-8F3B-EE4DF9B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8434-D1A9-4B1A-BB61-C1AA4045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7C39-6630-4BF9-8F8C-58D15DD3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2F492-EBC2-4B50-9688-BB30AE86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954-AF50-4948-9773-DEE032A0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418F-64C0-4EB7-B6BE-5B2BEDD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79D8D-AE94-4972-BB8C-68647B93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F6DA-146F-462A-9BCB-88ACDB6A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8B57-4065-4D44-8499-64999BF2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F01F-49E3-4382-8EA1-1271E308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21D44-C804-404C-A432-4071B14E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E175-B622-4BD3-BBF5-08F2A93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76E55-F963-4F06-88D4-FB8E70F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2F70F-6ABA-4F27-B87B-6F4A966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070A-0802-44AC-A24C-A65EF73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452-D0B5-486A-BE0C-F53133E1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17FD-CFA9-47BC-B5E9-6801EF7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3942-18E1-40B9-ADD4-7649267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05E5-A488-4BAA-82DD-B4824F4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4DF07-BFCD-40D2-9494-C5CFD89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400" y="4085640"/>
            <a:ext cx="84294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D28F-C411-4157-B917-3E1F63F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840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47680" y="4085640"/>
            <a:ext cx="41133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DE8F-1D2B-42B8-AC5C-7368C582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2840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852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28640" y="4085640"/>
            <a:ext cx="2714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C26B-9D93-4018-8A8F-D07E266D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DD477-664B-4E89-BA1D-0D90F861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C4E22-93B5-4C1F-8BEA-2BB3F65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CFB5-838F-4327-88FC-8804BE5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0040" y="6552720"/>
            <a:ext cx="121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89F4-BC67-45D4-BC4A-3403F6BC97C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6" descr="artslogo.png"/>
          <p:cNvPicPr/>
          <p:nvPr/>
        </p:nvPicPr>
        <p:blipFill>
          <a:blip r:embed="rId3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54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54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8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9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0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ABF-4E86-4487-8190-E01417363FA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59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60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12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14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0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83E-8A8F-459D-A0EB-3F40E3CBBF2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66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66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34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35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6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8D8B-E80A-463A-9372-A5709A6F5E9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71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71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37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38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39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305-FB90-4AB1-BA25-839891E96458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771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784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786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2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0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1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2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E906-8209-45D7-BE31-2F2588487EE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83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83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848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850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6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3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4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5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984-00C6-46B3-BA3C-EABA84BAB9F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89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90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911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912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914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0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6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7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8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35F6-1036-4377-A149-DF4C638D21A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96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4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96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1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975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976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978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4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49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50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51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85A3-E2AE-4BB1-AC07-CE5401BAF4F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5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9"/>
          <p:cNvSpPr/>
          <p:nvPr/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rtslogo.png"/>
          <p:cNvPicPr/>
          <p:nvPr/>
        </p:nvPicPr>
        <p:blipFill>
          <a:blip r:embed="rId3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1"/>
          <p:cNvSpPr/>
          <p:nvPr/>
        </p:nvSpPr>
        <p:spPr>
          <a:xfrm>
            <a:off x="0" y="142920"/>
            <a:ext cx="500040" cy="357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673920" y="142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0E2E-97F8-41AB-BD66-8C167C920C7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11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80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29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31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B6E-184E-4562-81FF-32C22D82283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180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182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4A00-D5FD-4A1D-8931-CC47E59CF85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234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236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3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47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49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A11-4B01-48D8-9D72-DC158200271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298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310" name="Freeform 31"/>
          <p:cNvSpPr/>
          <p:nvPr/>
        </p:nvSpPr>
        <p:spPr>
          <a:xfrm>
            <a:off x="8072280" y="1285920"/>
            <a:ext cx="190800" cy="3960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49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12" name="Straight Connector 21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24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25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26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27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28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" name="Picture 27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3870-DC25-4B98-852C-C4FEAE25355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36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36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76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78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1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7DA-93A2-4EDB-80F0-BA5F9B37F924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42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42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40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42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8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2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3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4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CDDE-E99E-4D0E-9FC9-5626A408BED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7"/>
          <p:cNvGrpSpPr/>
          <p:nvPr/>
        </p:nvGrpSpPr>
        <p:grpSpPr>
          <a:xfrm>
            <a:off x="0" y="142920"/>
            <a:ext cx="8715240" cy="368280"/>
            <a:chOff x="0" y="142920"/>
            <a:chExt cx="8715240" cy="368280"/>
          </a:xfrm>
        </p:grpSpPr>
        <p:sp>
          <p:nvSpPr>
            <p:cNvPr id="491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3c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0" y="142920"/>
              <a:ext cx="7215120" cy="368280"/>
              <a:chOff x="0" y="142920"/>
              <a:chExt cx="7215120" cy="368280"/>
            </a:xfrm>
          </p:grpSpPr>
          <p:sp>
            <p:nvSpPr>
              <p:cNvPr id="493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bb2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df63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e379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eb9d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6" descr="artslogo.png"/>
          <p:cNvPicPr/>
          <p:nvPr/>
        </p:nvPicPr>
        <p:blipFill>
          <a:blip r:embed="rId2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277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bb2771"/>
              </a:solidFill>
              <a:latin typeface="Microsoft Sans Serif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9FF6-362F-4A8E-8A0A-56D74215191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49552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8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2928600" y="3785760"/>
            <a:ext cx="5543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df63a1"/>
              </a:solidFill>
              <a:latin typeface="Microsoft Sans Serif"/>
              <a:ea typeface="LilyUPC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6902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FCB2-CEA5-4389-A70C-D06DD74BB737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358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99680" y="1600200"/>
            <a:ext cx="8358120" cy="4757760"/>
          </a:xfrm>
          <a:prstGeom prst="rect">
            <a:avLst/>
          </a:prstGeom>
          <a:ln w="0">
            <a:noFill/>
          </a:ln>
        </p:spPr>
      </p:pic>
      <p:sp>
        <p:nvSpPr>
          <p:cNvPr id="1031" name="Slide Number Placeholder 34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04D-1BCB-48BD-9D2B-A7B9D81607C3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 All rights reserved</dc:description>
  <dc:language>en-US</dc:language>
  <cp:lastModifiedBy>Nenuphar S.</cp:lastModifiedBy>
  <dcterms:modified xsi:type="dcterms:W3CDTF">2009-05-29T05:59:55Z</dcterms:modified>
  <cp:revision>324</cp:revision>
  <dc:subject/>
  <dc:title>คณะอักษรศาสตร์</dc:title>
</cp:coreProperties>
</file>