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8CB32-BFB1-43AD-947D-6B1CEB0DA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671508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5480" y="999720"/>
            <a:ext cx="8643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5480" y="3410280"/>
            <a:ext cx="8643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AD682-0D4B-4299-966F-7585F6C2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671508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5480" y="999720"/>
            <a:ext cx="42181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4920" y="999720"/>
            <a:ext cx="42181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5480" y="3410280"/>
            <a:ext cx="42181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4920" y="3410280"/>
            <a:ext cx="42181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A7785-07E1-455E-926F-4A286472A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671508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5480" y="999720"/>
            <a:ext cx="27831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8320" y="999720"/>
            <a:ext cx="27831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0800" y="999720"/>
            <a:ext cx="27831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5480" y="3410280"/>
            <a:ext cx="27831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8320" y="3410280"/>
            <a:ext cx="27831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0800" y="3410280"/>
            <a:ext cx="27831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09B78-232F-47A3-A992-438753BCE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671508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5480" y="999720"/>
            <a:ext cx="864396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7654B-A9F6-492E-944D-79DF4926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671508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5480" y="999720"/>
            <a:ext cx="864396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EDBF9-AFD5-4B87-8EC4-729A1AD8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671508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480" y="999720"/>
            <a:ext cx="42181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4920" y="999720"/>
            <a:ext cx="42181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10E44-B4C2-40B9-AEF8-BBFC6FDF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671508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2B2D9-4B69-4C09-8192-2E42B074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5480" y="-360"/>
            <a:ext cx="671508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8D993-E4B6-4BB6-89CA-9B08F68F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671508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5480" y="999720"/>
            <a:ext cx="42181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4920" y="999720"/>
            <a:ext cx="42181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5480" y="3410280"/>
            <a:ext cx="42181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13AC4-7E82-4814-BE4E-F55447D4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671508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5480" y="999720"/>
            <a:ext cx="42181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920" y="999720"/>
            <a:ext cx="42181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4920" y="3410280"/>
            <a:ext cx="42181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B0B05-67CA-4AC9-85F4-1EF1770B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671508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5480" y="999720"/>
            <a:ext cx="42181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920" y="999720"/>
            <a:ext cx="42181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5480" y="3410280"/>
            <a:ext cx="8643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C8291-37E6-4DA9-9EFC-00378D3C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671508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480" y="999720"/>
            <a:ext cx="864396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d53786"/>
              </a:buClr>
              <a:buSzPct val="70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8f8f8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2f2f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643040" y="6552720"/>
            <a:ext cx="6500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286480" y="6524280"/>
            <a:ext cx="669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68B3-0A16-49D2-A6F1-F83CAF3D73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213840" y="6572160"/>
            <a:ext cx="124956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99760" y="2928600"/>
            <a:ext cx="7286760" cy="1785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56880" y="4714920"/>
            <a:ext cx="528660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3200" spc="-1" strike="noStrike">
              <a:solidFill>
                <a:srgbClr val="d53786"/>
              </a:solidFill>
              <a:latin typeface="Microsoft Sans Serif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474040" y="6524640"/>
            <a:ext cx="6699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BD9E-D097-4B3D-BC31-5FF1350B72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000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13840" y="1071720"/>
            <a:ext cx="8643960" cy="5054400"/>
          </a:xfrm>
          <a:prstGeom prst="rect">
            <a:avLst/>
          </a:prstGeom>
          <a:ln w="0">
            <a:noFill/>
          </a:ln>
        </p:spPr>
      </p:pic>
      <p:sp>
        <p:nvSpPr>
          <p:cNvPr id="46" name="Slide Number Placeholder 3"/>
          <p:cNvSpPr/>
          <p:nvPr/>
        </p:nvSpPr>
        <p:spPr>
          <a:xfrm>
            <a:off x="8286840" y="6524640"/>
            <a:ext cx="669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62E5-6682-402D-B850-14E426AF5C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06:39:22Z</dcterms:created>
  <dc:creator>Nenuphar Supavej</dc:creator>
  <dc:description>Template created by Nenuphar Supavej. All rights reserved</dc:description>
  <dc:language>en-US</dc:language>
  <cp:lastModifiedBy> </cp:lastModifiedBy>
  <dcterms:modified xsi:type="dcterms:W3CDTF">2011-01-19T11:02:46Z</dcterms:modified>
  <cp:revision>310</cp:revision>
  <dc:subject/>
  <dc:title>คณะอักษรศาสตร์</dc:title>
</cp:coreProperties>
</file>