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FA2-4555-47A0-B0F0-2822877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409788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3F8-C94D-4C1E-98E4-6704787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164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D8B-EAE3-4E19-B871-A964AA6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540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716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540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716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27F-5510-488E-9BA6-EF7A352D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4B4-8B37-4DEE-995B-B215BF23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3A8-1BFB-4A5E-9C20-C4AB857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EC9C-5FBE-4803-8E97-E3292AC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96B7-4F3D-4D3C-87E7-8C86A8E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D33-1CE2-4771-A5B2-21FA9A3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578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A738-119E-4ED0-A159-5064BC65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CEAB-F94C-40B5-BA4D-19D3118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EDC-8FB6-43E4-A9BD-FB2C00C9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164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284A-5C1E-48AE-B425-66A9BE6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4E2-82C5-4870-9EA5-49E8CD25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00" y="409788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7F4F-617B-4757-8DCC-AEDAD7F3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164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FBD-BC2E-4969-ACD9-E999F7F4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540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7160" y="160020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400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540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7160" y="4097880"/>
            <a:ext cx="2782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683A-5B3E-497C-BB89-32881B72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8C2-9AE1-4567-8252-9D5B027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CD5-09CF-4324-9C28-BBB2457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CBA-54B5-4A7D-AE36-2395B6AC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578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7B5-34CC-4210-A6C0-D5909038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E35-ECF9-4A52-8AE7-2D6BA304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1640" y="409788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FC9-4DDF-40A6-93AE-BEE5AA1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1640" y="1600200"/>
            <a:ext cx="4216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4097880"/>
            <a:ext cx="8640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07E-35F9-47B8-86F5-D714F9B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27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947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" y="6552720"/>
            <a:ext cx="10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58920" y="6524280"/>
            <a:ext cx="684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242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9DA-3057-4789-BEF7-1AEA2008E8B1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0" descr="arts-logo.png"/>
          <p:cNvPicPr/>
          <p:nvPr/>
        </p:nvPicPr>
        <p:blipFill>
          <a:blip r:embed="rId5"/>
          <a:stretch/>
        </p:blipFill>
        <p:spPr>
          <a:xfrm>
            <a:off x="0" y="0"/>
            <a:ext cx="2556000" cy="536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 flipH="1" rot="20872800">
            <a:off x="7812000" y="980640"/>
            <a:ext cx="126864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27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4560" y="6524280"/>
            <a:ext cx="115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403280" y="6524280"/>
            <a:ext cx="64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028000" y="6552720"/>
            <a:ext cx="105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752-042E-4B8F-9C02-C58F0FC0D383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0" descr="arts-logo.png"/>
          <p:cNvPicPr/>
          <p:nvPr/>
        </p:nvPicPr>
        <p:blipFill>
          <a:blip r:embed="rId3"/>
          <a:stretch/>
        </p:blipFill>
        <p:spPr>
          <a:xfrm>
            <a:off x="250920" y="1268280"/>
            <a:ext cx="4064040" cy="85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11899800">
            <a:off x="7524360" y="1843920"/>
            <a:ext cx="115272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847800">
            <a:off x="539280" y="3284640"/>
            <a:ext cx="1152720" cy="399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9479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424-D831-4914-8520-4258F289060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bb2771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24000" y="1600200"/>
            <a:ext cx="8640720" cy="47815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4921-E553-428F-AB6D-DEDDDEA8F3E7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 </cp:lastModifiedBy>
  <dcterms:modified xsi:type="dcterms:W3CDTF">2011-01-19T06:22:46Z</dcterms:modified>
  <cp:revision>289</cp:revision>
  <dc:subject/>
  <dc:title>คณะอักษรศาสตร์</dc:title>
</cp:coreProperties>
</file>